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A7FA-F706-4CB3-A3C1-F861D6E79CBB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Rhinitis : inflammation of the nasal mucosa characterized by two or more of the following sympto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Nasal con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Anterior/posterior rhinorrho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Sneez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Nasal itch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rgy rhinitis - </a:t>
            </a: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Ig-E mediated inflammation  of the nasal mucosa after exposure to the aller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9835-4FB8-47AF-A64A-D774FB04AF74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divided in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mittent (IAR) .v. persistent (P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ity classified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d .v. moderate/sev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B88D-2C25-4340-A24C-BFBEED178D6A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573-1BE4-42B9-967F-F7C2CFDE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109-5950-4137-A173-B8C237D5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193-AB9F-456F-8EDD-D400EAB9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AC9-9B48-414B-984C-793269C4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BBE5-CD20-4DDB-A0BE-5D64E7F6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CD8E-EB57-441D-AFE3-1DE6A571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D7B0-817A-47E7-8A6A-A8F0CA2C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33A0-A4AE-478C-B7FC-6E0CE745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0767-AAEA-45FA-9780-7BADD4AB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1FC0-B4DE-49FA-967A-AF7F89F5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3FC7-EEAB-41EA-AF94-B508149D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493-D6F7-4E0D-89FF-7C59C5D5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4EE7-1857-4DDF-AF90-62977A6D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9033-FE2C-450F-8C4C-2D0709B5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A4B5-8877-4165-98DA-A9D46522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140B-C0B7-48FA-BF7A-12930A6D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3CC8-7DDC-4722-AAD7-7639064A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74D8-C97D-4DAF-AF1E-3AECF85E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0B1F-C5DF-4AFF-A0F3-1E4BF1E7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A78A0-6B7A-4729-950C-956B5940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2EDDA-AF21-48A7-80E7-59E1534A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0098E-66BF-46C8-A775-CA6A361F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BE9-19B1-41A2-8C71-B71B7F74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63891-E44B-4374-A70D-24E42FFA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32A4-FE5F-44F3-A2B3-9FB0B370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26B72-2DCD-4130-8279-631BCA8F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81010-0A62-452A-B557-022C13D9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A55A-43A9-46E0-80CA-46CE91A5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FC851-8D17-47C2-9DF5-108842CB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C0DE-8C2C-4B71-9421-3059A69F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C5A4B-3E42-433E-9B24-B18AC9CA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1A424-BDA1-47D8-9B0A-A1B0C319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9BD42-2DAF-46CC-ACC2-96719C82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A5D-6E3E-4B0A-8217-97C93C83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D494E-A50F-425F-A6DC-D7E05733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4060A-870E-4B26-8885-E3DAC7C3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03C78-3754-4B7D-911B-617A958D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D5704-EE7A-4E21-B833-039AF631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24086-606A-4583-B553-81302889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AA4A8-7EA1-4EF5-920C-77E71316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4E40C-F36A-4D02-8FA7-F9466CC3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BA33E-0E45-4D56-A7DA-BC7DF8D7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BC65D-32CB-483E-A973-5D433C6F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4CF5C-A790-45EE-9CFC-997736ED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F4B-C0BE-45FF-A6A6-3F0D37AA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2F1F6-0C5C-4977-AF9F-5F600019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91B7C-2A2A-4A36-BDC8-F3866B35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F7769-4165-4308-B5E0-C7495D95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F6993-313D-47A0-AC05-D3A7FD3E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4B3F4-7B3E-4CF6-8DFF-F35096F3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07643-BD96-445B-AD0C-B176170F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99D61-2ED3-45F4-B5A3-EDF31C6D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EB3FF-76F2-42EF-A7CE-A123F575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6BB97-1D4D-47A4-8E6C-DFF0A5EE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14053-ABDE-4EF6-88A6-0784451F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1C7-C6B0-47FB-9A76-2616D3D7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B0AF0-45C3-43A8-8231-28AAC7FE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575A8-41CA-49DC-B3C0-8F1E49A0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05C6F-2A29-4B75-8C0F-D42BBC38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3C72B-3472-4179-97A2-8FE63E6A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6B876-1485-4565-B3E9-17761BA0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D531F-3855-4056-8442-389390D4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FF671-BE92-49F8-AE94-00784291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E40D3-CB57-4F9E-B8B6-0EE9071F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C854A-1218-4CEA-BBC7-94171986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ECDEC-B4AD-45C9-9E3A-13D7784F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18C-651E-4FA6-B5F5-558FC660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428DE-64B2-4C55-8FCA-C1AC0E48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FA8C1-B883-4A0B-976A-B3998BA0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5D525-20A8-4A42-B7EA-C2C8C22A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CAB9C-BFF2-430D-8FD9-388F04F3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C815F-CEC7-4C3D-B45F-49CCA95D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9EABC-15B3-451A-AD44-67976C1D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8C5A3-2C6A-4FAB-8340-D27E3CD3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464B0-574A-4FFB-BAFF-97C6138F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ED211-1F2E-4D13-BE43-5C2E633C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9B81F-B337-4861-BBF6-AF476D66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88A-7D07-40D6-8A38-339A7F36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53442-333A-4B9C-81D5-4144AD1C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28B85-AE1A-47B8-B723-553FA609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91FF3-F883-4631-8475-50823FA7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630BC-09EC-4920-B8A6-4AEAAE57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7FC0F-4D15-47C0-8E90-84DB06FB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EFE-DDF9-4076-80F0-023DF506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90E7-23FB-43BC-BEC4-ADCA2B3D07D1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824E-3B28-47A3-9186-B976C33FD1E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38CA-58DC-4A07-9D1A-E68354C337EF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C991-955D-4241-B601-0CDAF086C0F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482A-C2AA-4FC9-8FE4-0426F51E85C9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FAE3-24BD-4D0D-A970-76307568785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9E62-F4CF-4CB0-81EE-4F114F846F3F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E3DA-CCD0-4ED9-AD33-B7B0E5FB17D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9F85-C9B7-4427-8599-2978D7716E35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AE18-F061-465B-B370-F6E745E8273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7EB6-6F89-4379-9462-6CD8EF1032C1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5877-6111-4077-AB59-C607F7C3D93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B82B-04AE-4103-8975-846FF61611C1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CDAA-41D2-4FBC-ADA9-71DC25C1E62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77960" y="2599920"/>
            <a:ext cx="6400800" cy="39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CASE DISCUSSION 3</a:t>
            </a:r>
            <a:br>
              <a:rPr sz="3600"/>
            </a:b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B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DR. IDA SADJA’AH SACHLIN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CONSULTANT OTORHINOLARYNGOLOGIST</a:t>
            </a:r>
            <a:br>
              <a:rPr sz="2000"/>
            </a:br>
            <a:br>
              <a:rPr sz="12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DR. AMILIA HAZREENA HAMIDON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FAMILY MEDICINE SPECIALIST</a:t>
            </a:r>
            <a:br>
              <a:rPr sz="2000"/>
            </a:br>
            <a:br>
              <a:rPr sz="12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MR. LEOW WOOI LEONG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PHARMACIST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320e04"/>
                </a:solidFill>
                <a:latin typeface="Gill Sans MT"/>
              </a:rPr>
              <a:t>Training Module CPG Management of Rhinosinusitis in Adolescents &amp; Adul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108000" y="2943360"/>
            <a:ext cx="2087640" cy="3252600"/>
          </a:xfrm>
          <a:prstGeom prst="rect">
            <a:avLst/>
          </a:prstGeom>
          <a:ln w="0">
            <a:noFill/>
          </a:ln>
        </p:spPr>
      </p:pic>
      <p:sp>
        <p:nvSpPr>
          <p:cNvPr id="3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A456-14AD-4388-88D8-5F5258CD53F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600" y="1523880"/>
            <a:ext cx="740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Saline irrigation - Y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Nasal saline irrigation facilitates mechanical removal of mucus &amp; infective agents. It also decreases crusting in the nasal cavity &amp; increases mucociliary clearance (MCC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Alternative analgesic - Y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NSAIDs (e.g. diclofenac, sodium mefenamic acid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Nasal corticosteroids - No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Decongestant - Ye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e.g. Oxymetazoline nasal spr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Antihistamine - No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No role of antihistamines UNLESS there is underlying allergic rhinit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Associated symptoms suggestive of allergic rhinitis are sneezing, nasal itchiness, nasal obstruction &amp; rhinorrhoea (refer ARIA guidelin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Antibiotics - N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8E86-BD8E-4E54-B846-5FFC543598E1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57360" y="131760"/>
            <a:ext cx="7738920" cy="65181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5"/>
          <p:cNvSpPr/>
          <p:nvPr/>
        </p:nvSpPr>
        <p:spPr>
          <a:xfrm>
            <a:off x="4405320" y="4649760"/>
            <a:ext cx="3868560" cy="20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Callout 2 (Accent Bar) 7"/>
          <p:cNvSpPr/>
          <p:nvPr/>
        </p:nvSpPr>
        <p:spPr>
          <a:xfrm>
            <a:off x="5330880" y="5184720"/>
            <a:ext cx="2151000" cy="870120"/>
          </a:xfr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5168880" y="5099040"/>
            <a:ext cx="17812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ARIA Guidelines: Allergic Rhiniti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0BA7-0DFF-4F35-81D6-68B1C18136B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2014560" y="1657440"/>
            <a:ext cx="5673600" cy="4449600"/>
            <a:chOff x="2014560" y="1657440"/>
            <a:chExt cx="5673600" cy="4449600"/>
          </a:xfrm>
        </p:grpSpPr>
        <p:sp>
          <p:nvSpPr>
            <p:cNvPr id="364" name="AutoShape 3"/>
            <p:cNvSpPr/>
            <p:nvPr/>
          </p:nvSpPr>
          <p:spPr>
            <a:xfrm>
              <a:off x="2014560" y="1657440"/>
              <a:ext cx="5662440" cy="44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Picture 5" descr=""/>
            <p:cNvPicPr/>
            <p:nvPr/>
          </p:nvPicPr>
          <p:blipFill>
            <a:blip r:embed="rId1"/>
            <a:stretch/>
          </p:blipFill>
          <p:spPr>
            <a:xfrm>
              <a:off x="2014560" y="1657440"/>
              <a:ext cx="5673600" cy="444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1219320" y="2163600"/>
            <a:ext cx="77263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ARIA Guidelines: Allergic Rhiniti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99CA-6905-4090-9C75-5403BF5996A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E:\Slide\p15.png"/>
          <p:cNvPicPr/>
          <p:nvPr/>
        </p:nvPicPr>
        <p:blipFill>
          <a:blip r:embed="rId1"/>
          <a:stretch/>
        </p:blipFill>
        <p:spPr>
          <a:xfrm>
            <a:off x="2001960" y="1447920"/>
            <a:ext cx="6365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ARIA Guidelines: Allergic Rhiniti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1" name="Content Placeholder 4" descr=""/>
          <p:cNvPicPr/>
          <p:nvPr/>
        </p:nvPicPr>
        <p:blipFill>
          <a:blip r:embed="rId1"/>
          <a:stretch/>
        </p:blipFill>
        <p:spPr>
          <a:xfrm>
            <a:off x="1743120" y="2205000"/>
            <a:ext cx="2922480" cy="2209680"/>
          </a:xfrm>
          <a:prstGeom prst="rect">
            <a:avLst/>
          </a:prstGeom>
          <a:ln w="0">
            <a:noFill/>
          </a:ln>
        </p:spPr>
      </p:pic>
      <p:sp>
        <p:nvSpPr>
          <p:cNvPr id="37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84CE-FEA6-4012-89F1-75936B24538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5"/>
          <p:cNvGrpSpPr/>
          <p:nvPr/>
        </p:nvGrpSpPr>
        <p:grpSpPr>
          <a:xfrm>
            <a:off x="5562720" y="2205000"/>
            <a:ext cx="2604960" cy="2138400"/>
            <a:chOff x="5562720" y="2205000"/>
            <a:chExt cx="2604960" cy="2138400"/>
          </a:xfrm>
        </p:grpSpPr>
        <p:pic>
          <p:nvPicPr>
            <p:cNvPr id="374" name="Oval 6" descr=""/>
            <p:cNvPicPr/>
            <p:nvPr/>
          </p:nvPicPr>
          <p:blipFill>
            <a:blip r:embed="rId2"/>
            <a:stretch/>
          </p:blipFill>
          <p:spPr>
            <a:xfrm>
              <a:off x="5562720" y="2205000"/>
              <a:ext cx="260496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Oval 4"/>
            <p:cNvSpPr/>
            <p:nvPr/>
          </p:nvSpPr>
          <p:spPr>
            <a:xfrm>
              <a:off x="5994000" y="2545200"/>
              <a:ext cx="1738800" cy="14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Persistent symp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ill Sans MT"/>
                </a:rPr>
                <a:t>&gt; 4 days per week and &gt; 4 week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Box 12"/>
          <p:cNvSpPr/>
          <p:nvPr/>
        </p:nvSpPr>
        <p:spPr>
          <a:xfrm>
            <a:off x="1617120" y="4952880"/>
            <a:ext cx="289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M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Normal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Normal daily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Normal work &amp;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No troublesome symp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4648320" y="495288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MODERATE-SE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Abnormal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Impairment of daily activities, sport, lei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Problems caused at school o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"/>
              </a:rPr>
              <a:t>Troublesome symp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3981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Differential diagno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7BF8-7632-4760-8F62-5CF2831322A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304920" y="1635120"/>
            <a:ext cx="86104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tibiotic - </a:t>
            </a:r>
            <a:r>
              <a:rPr b="1" lang="en-MY" sz="3200" spc="-1" strike="noStrike">
                <a:solidFill>
                  <a:srgbClr val="000000"/>
                </a:solidFill>
                <a:latin typeface="Gill Sans MT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The history provided suggests common cold which is viral in natur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The colour of the nasal discharge does not correlate with origin of infection, whether viral or bacterial in natur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tibiotic has no role in the management of a common co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Common cold is self-limiti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5E75-C4B0-4B50-8251-E199D0D703E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Case 1 – 2</a:t>
            </a:r>
            <a:r>
              <a:rPr b="1" lang="en-MY" sz="3900" spc="-1" strike="noStrike" baseline="30000">
                <a:solidFill>
                  <a:srgbClr val="572314"/>
                </a:solidFill>
                <a:latin typeface="Gill Sans MT"/>
              </a:rPr>
              <a:t>nd</a:t>
            </a: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 Visit (Primary Care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lia comes back a week later with worsening symptom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Mucopurulent nasal dischar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Fever,  temperature=38</a:t>
            </a:r>
            <a:r>
              <a:rPr b="0" lang="en-MY" sz="2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In addition to the headache, she now develops right-sided facial pain which is tender on touc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Pain has increased in severity affecting her sleep &amp; stud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VAS score for symptoms of RS is now  7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65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000" spc="-1" strike="noStrike">
                <a:solidFill>
                  <a:srgbClr val="ff0000"/>
                </a:solidFill>
                <a:latin typeface="Gill Sans MT"/>
              </a:rPr>
              <a:t>Q3. What is the diagnosis now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349F-5D3A-4CE6-B20C-4CAB65BC219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3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cute rhinosinusitis, probably with superimposed bacterial infec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A711-67AC-4CD9-9A56-D707CD3F4AA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Question 4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Gill Sans MT"/>
              </a:rPr>
              <a:t>How would you manage her now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aline irrig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alges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Nasal corticostero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Decongesta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tihistam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tibiot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DEE7-50FE-4B12-9BDC-92DB64126BF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6238800" y="2955960"/>
            <a:ext cx="24814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151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Case 1 - 1</a:t>
            </a:r>
            <a:r>
              <a:rPr b="1" lang="en-MY" sz="3900" spc="-1" strike="noStrike" baseline="30000">
                <a:solidFill>
                  <a:srgbClr val="572314"/>
                </a:solidFill>
                <a:latin typeface="Gill Sans MT"/>
              </a:rPr>
              <a:t>st</a:t>
            </a: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 Visit (Primary Care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47560" y="1401480"/>
            <a:ext cx="739116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Cik Alia, a 23-year-old, final-year university stud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3 days h/o purulent nasal discharge, blocked nose, headache &amp; lethar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She has been taking regular paracetamol for her headache, &amp; not on any other regular medici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She is a non-smoker with no other significant medical history or drug allergie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Her exams start in 2 weeks’ time &amp; she feels a course of antibiotics will help to recover quick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Alia appears tired &amp; shivery, &amp; is constantly blowing her nose. O/E, she has a temperature of 37.8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Her Visual Analogue Scale for symptoms of RS is 3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Saline irrigation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algesic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Nasal corticosteroids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Intranasal corticosteroids (e.g. Beclomethasone, Budesonide, Fluticasone propionate) significantly improves symptoms of A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Consider prescribing to patients for a period of 2 - 3 week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Decongestant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tihistamine - No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8EE7-58D3-45E5-830C-E2EB58C65CD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tibiotics - Yes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Can consider to prescribe antibiotic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Preferred antibiotics = Amoxicillin 500 mg given TDS or Amoxicillin/Clavunalate 625 mg TDS for a period of 5 - 7 da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May prescribe other classes of antibiotics if patient has history of penicillin allergy - no significant difference in efficacy between different antibiotics in A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Cefuroxime, Doxycycl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Gill Sans MT"/>
              </a:rPr>
              <a:t>Precaution: antibiotic resista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1D6E-33A4-42E9-AD00-BEF9289146E5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EC57-4591-4732-BAE4-C61AACC0AE7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1652760" y="1353960"/>
            <a:ext cx="6653160" cy="5204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1631880" y="3051000"/>
            <a:ext cx="3137040" cy="3654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6"/>
          <p:cNvSpPr/>
          <p:nvPr/>
        </p:nvSpPr>
        <p:spPr>
          <a:xfrm>
            <a:off x="4800600" y="4444920"/>
            <a:ext cx="3505320" cy="2108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Case 1 – 3</a:t>
            </a:r>
            <a:r>
              <a:rPr b="1" lang="en-MY" sz="4300" spc="-1" strike="noStrike" baseline="30000">
                <a:solidFill>
                  <a:srgbClr val="572314"/>
                </a:solidFill>
                <a:latin typeface="Gill Sans MT"/>
              </a:rPr>
              <a:t>rd</a:t>
            </a: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 Visi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Upon completion of antibiotics during her last visit, her facial pain &amp; headache improve significantly, but her nasal symptom persis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3 months later, Alia comes back with similar complaint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ntermittent nasal blockage &amp; nasal dischar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ltered state of sme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Gill Sans MT"/>
              </a:rPr>
              <a:t>Q5. What is the diagnosis now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1FC6-75AC-41BD-826B-AE3B3E40843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8037360" y="3130560"/>
            <a:ext cx="10051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5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hronic rhinosinusit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D026-F90B-429E-B14E-B0DB1537F59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Question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34960" y="1553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Gill Sans MT"/>
              </a:rPr>
              <a:t>Outline your manage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615D-8D4A-4B62-A6AE-375B71FBBF9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aline nasal irrig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effective as an adjunct treatment for managing  symptoms of C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ntranasal corticosteroi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hould be given for 16 - 52 wee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algesic (when necessary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Refer to ORL for further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7B17-9444-42C5-AF3F-6E55FF7E938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412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12E2-F055-4ECC-8115-EA42C7D8544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06720" y="1571760"/>
            <a:ext cx="58179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412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9F9C-8B37-4058-A8CF-394BFE21ABD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600200" y="1619280"/>
            <a:ext cx="69231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2C9D-08E0-4AD5-928D-7B30249A762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6" descr=""/>
          <p:cNvPicPr/>
          <p:nvPr/>
        </p:nvPicPr>
        <p:blipFill>
          <a:blip r:embed="rId1"/>
          <a:stretch/>
        </p:blipFill>
        <p:spPr>
          <a:xfrm>
            <a:off x="1676520" y="866880"/>
            <a:ext cx="67723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Question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553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Gill Sans MT"/>
              </a:rPr>
              <a:t>What is the diagnosi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00C1-8BFB-403B-95F3-157F361ED42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6238800" y="3178080"/>
            <a:ext cx="24814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Take Home Messag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34600" y="14475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cute vs chronic rhinosinusitis should be differentiat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Nasal saline irrigation is a useful adjunct in managing both acute &amp; chronic rhinosinusit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Judicious use of antibiotic is important to prevent antibiotic resista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4D8C-C6AD-44EC-97CA-8886B8139C0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572314"/>
                </a:solidFill>
                <a:latin typeface="Gill Sans MT"/>
              </a:rPr>
              <a:t>THANK YOU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9384-D88E-4329-ACE9-F0285100AA4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108000" y="2943360"/>
            <a:ext cx="208764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371240" y="1599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 diagnosis is likely to be either common cold or mild acute rhinosinusitis (ARS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Both are likely to be viral in nature &amp; self-limit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E7CF-4E9A-4A91-9E58-C1183209F39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88B7-C06E-4D1E-BAB8-0B5AD428173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1273320" y="1380960"/>
            <a:ext cx="761976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ff0000"/>
                </a:solidFill>
                <a:latin typeface="Gill Sans MT"/>
              </a:rPr>
              <a:t>Answer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57A9-E3F3-4556-93B1-AA047EFCB9C1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676520" y="1552680"/>
            <a:ext cx="685800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Visual Analogue Score/Scale (VAS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1C9D-DD24-4860-BA23-ACBE541DC13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1752480" y="1690560"/>
            <a:ext cx="66358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ff0000"/>
                </a:solidFill>
                <a:latin typeface="Gill Sans MT"/>
              </a:rPr>
              <a:t>Q2. What is the management/ treatment options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7573-B846-464D-9258-B64E24D451E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5589720" y="2590920"/>
            <a:ext cx="3146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ff0000"/>
                </a:solidFill>
                <a:latin typeface="Gill Sans MT"/>
              </a:rPr>
              <a:t>Q2. What is the management/ treatment options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283D-6174-47C2-803B-67936EFC856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5589720" y="2590920"/>
            <a:ext cx="3146400" cy="2971800"/>
          </a:xfrm>
          <a:prstGeom prst="rect">
            <a:avLst/>
          </a:prstGeom>
          <a:ln w="0">
            <a:noFill/>
          </a:ln>
        </p:spPr>
      </p:pic>
      <p:sp>
        <p:nvSpPr>
          <p:cNvPr id="353" name="Content Placeholder 2"/>
          <p:cNvSpPr/>
          <p:nvPr/>
        </p:nvSpPr>
        <p:spPr>
          <a:xfrm>
            <a:off x="1434960" y="1828800"/>
            <a:ext cx="417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aline irr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alge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Nasal cortico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Deconge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tihis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22:12:47Z</dcterms:created>
  <dc:creator>DrAmin</dc:creator>
  <dc:description/>
  <dc:language>en-US</dc:language>
  <cp:lastModifiedBy>DrAmin</cp:lastModifiedBy>
  <dcterms:modified xsi:type="dcterms:W3CDTF">2017-10-09T00:08:42Z</dcterms:modified>
  <cp:revision>90</cp:revision>
  <dc:subject/>
  <dc:title>PowerPoint Presentation</dc:title>
</cp:coreProperties>
</file>