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C4260-FBE7-4315-9549-D77A633A44E6}" type="slidenum">
              <a:rPr b="0" lang="en-MY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2CB02-C325-4CED-A389-75507E6B5E4E}" type="slidenum">
              <a:rPr b="0" lang="en-MY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other group of pharmacotherapy that is commonly administered is corticosteroi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available in the form of intranasal (INS) which has more local control in the nasal cavity &amp; also oral corticosteroi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000000"/>
                </a:solidFill>
                <a:latin typeface="Calibri"/>
              </a:rPr>
              <a:t>Corticosteroids especially INS corticosteroids are commonly used in RS. It reduces the inflammation &amp; oedema of the nasal mucous membrane rendering resolution of RS sympto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BE519-CCB3-43AC-9239-5AA9D6BBB9C9}" type="slidenum">
              <a:rPr b="0" lang="en-MY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M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142CC-D6F3-4DF7-AA68-3B126A572753}" type="slidenum">
              <a:rPr b="0" lang="en-MY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M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265C7-6F0F-495B-B401-83479938E5F8}" type="slidenum">
              <a:rPr b="0" lang="en-MY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000000"/>
                </a:solidFill>
                <a:latin typeface="Calibri"/>
              </a:rPr>
              <a:t>In local practice, oral steroids are not given due to the possibility of exacerbation of bacterial infe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8CDB0-1313-4E6D-B9B8-E550917D8DE9}" type="slidenum">
              <a:rPr b="0" lang="en-MY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M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2120F-1333-4B2B-80A7-60F2149D9F00}" type="slidenum">
              <a:rPr b="0" lang="en-MY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M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983A4-A4C0-45D1-974A-CA261D1A6839}" type="slidenum">
              <a:rPr b="0" lang="en-MY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000000"/>
                </a:solidFill>
                <a:latin typeface="Calibri"/>
              </a:rPr>
              <a:t>Many studies observed on the improvement of mucocliiary clearance as parameters to assess the use of decongesta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000000"/>
                </a:solidFill>
                <a:latin typeface="Calibri"/>
              </a:rPr>
              <a:t>It is known that the MCC is significantly slower in AB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2FDE9-C14B-4AC5-89C3-5D631461C282}" type="slidenum">
              <a:rPr b="0" lang="en-MY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M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9D1CF-2933-4551-B5A9-ED55867BA95F}" type="slidenum">
              <a:rPr b="0" lang="en-MY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000000"/>
                </a:solidFill>
                <a:latin typeface="Calibri"/>
              </a:rPr>
              <a:t>Viral RS is a self-limiting disease that is managed symptomatically with analgesic or antipyreti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000000"/>
                </a:solidFill>
                <a:latin typeface="Calibri"/>
              </a:rPr>
              <a:t>The aims of pharmacotherapy are to alleviate/reduce severity of symptoms as well as to prevent complica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A282B-2D3C-45DA-82F2-394892E0925C}" type="slidenum">
              <a:rPr b="0" lang="en-MY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M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20BCB-3763-4EF4-B2EA-F0C0EAD4B805}" type="slidenum">
              <a:rPr b="0" lang="en-MY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M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DBC0D-4A40-4523-B8AC-36E4DF745A18}" type="slidenum">
              <a:rPr b="0" lang="en-MY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M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C6712-15D0-4BCC-AA1B-B86C9D20456E}" type="slidenum">
              <a:rPr b="0" lang="en-MY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000000"/>
                </a:solidFill>
                <a:latin typeface="Calibri"/>
              </a:rPr>
              <a:t>The are 4 main groups of the range of medications used in treating RS. Namely antibiotics, corticosteroids &amp; saline irrigations.  While anti-histamine is mainly used specifically in cases with underlying allerg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000000"/>
                </a:solidFill>
                <a:latin typeface="Calibri"/>
              </a:rPr>
              <a:t>In our CPG we have alo include in our discussion a smaller group of medications whereby the administration of which may be of beneficial for the patie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000000"/>
                </a:solidFill>
                <a:latin typeface="Calibri"/>
              </a:rPr>
              <a:t>Let us just go through the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3CE9F-BA6F-495D-9E03-3E58A5D1ECDF}" type="slidenum">
              <a:rPr b="0" lang="en-MY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000000"/>
                </a:solidFill>
                <a:latin typeface="Calibri"/>
              </a:rPr>
              <a:t>The use of antibiotics in the treatment of ARS provide minimal to moderate benefi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000000"/>
                </a:solidFill>
                <a:latin typeface="Calibri"/>
              </a:rPr>
              <a:t>Cochrane meta-analysis: In 2009 – showed a reduced risk of treatment failure in antibiotics comparing to placebo by 34% within 7 to 15 d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000000"/>
                </a:solidFill>
                <a:latin typeface="Calibri"/>
              </a:rPr>
              <a:t>A large prospective cohort study demonstrated reduced risk of treatment failure in patients treated with antibiotics vs without antibiotics (HR=0.3, 95% CI 0.21 to 0.42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000000"/>
                </a:solidFill>
                <a:latin typeface="Calibri"/>
              </a:rPr>
              <a:t>Patients with poor orodental condition &amp; those with previous use of antibiotics in the past two months benefited most from this (HR of 0.04 &amp; 0.09 respectively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B2F12-50A1-4CF0-A57E-F67ADC135098}" type="slidenum">
              <a:rPr b="0" lang="en-MY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tibiotics have higher incidence of adverse events compared with placebo; gastrointestinal upsets being the most common (OR=2.10,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95% CI 1.60 to 2.77; NNH=9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Europe, antibiotics overuse has been reported to have directly resulted in an increased prevalence of antimicrobial resistance in the reg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though there are no available data for the Asian region, antimicrobial resistance due to overuse of antibiotics is an international health issu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sed on the National Surveillance of Antibiotic Resistance (NSAR) Report by Ministry of Health, Malaysia, both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Streptococcus pneumonia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amp;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Haemophilus influenzae (two of the most common causativ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thogens of ARS) have shown an increase in antibiotic resistance from 2010 to 2014 (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Table 1 &amp; 2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C5BD8-02BB-4393-AC60-154A40110761}" type="slidenum">
              <a:rPr b="0" lang="en-MY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is no significant difference in efficacy between different antibiotics in 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National Antibiotics Guidelines Second Edition 2014, the preferred antibiotics are amoxicillin &amp; amoxicillin/clavulana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000000"/>
                </a:solidFill>
                <a:latin typeface="Calibri"/>
              </a:rPr>
              <a:t>Duration of antibiotic therapy should be as short as possible to reduce possible side effec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meta-analysis showed that a shorter course of antibiotics (3 to 7 days) was as efficacious as a longer one (6 to 10 days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2F16C-ADD9-43DF-8C58-BA88AA47BEAF}" type="slidenum">
              <a:rPr b="0" lang="en-MY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000000"/>
                </a:solidFill>
                <a:latin typeface="Calibri"/>
              </a:rPr>
              <a:t>The use of antibiotic in CRS, on the other hand has insufficient strong evidence to support its beneficial outcom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ystematic review used only one small RCT with high risk of bia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some studies which report improvement in symptoms &amp; reduction in inflammatory markers using long-term macrolides such 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zithromycin, clarithromycin &amp; erythromycin at low doses in C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ever, those studies are not placebo-controll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9FC6A-BEB2-4EA7-858E-C16214075702}" type="slidenum">
              <a:rPr b="0" lang="en-MY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10A1-1A22-4CFA-B738-46A8FBC78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3FB0-E025-4877-AEF3-2DDA904AD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B8BF-2DDA-49AA-8BC7-4C2084FE9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38C9-82D9-49E8-A743-0CF9B559D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BA6F1-8C32-4440-A375-EB06B02A0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B8B61-1A57-4F7C-98ED-287E3BE66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EE05F-D7C9-4AD9-B553-482554E4B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01BFA-5E27-4A66-9BF2-9F0BD1684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9CF82-0E4D-41E7-92EC-FF543E46E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B59AC-8241-468B-9278-EC5F8BB22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CEBBE-CFE1-4E39-A988-31B72052D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03BC-18AD-4B7D-B04B-7354435CC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25F7C-EC4C-40CD-B3E5-E01FFCF2F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3C5AE-30A5-4654-9382-849C43AC0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7B49C-67ED-4555-A80B-82ACBE61C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FFA18-A095-4B75-B7E9-5C90D3301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044F6-2D1C-4BB2-BAA7-90E2F350F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00BB26-C704-435F-B1BA-8BC1BBFD3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465EFF-692E-4E9F-AA3A-675C3EB39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73ADB8-04BB-4C5A-A681-AA79CD0E6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5492A4-1F1B-4CF0-9DEF-2E5648C26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FB9D54-4641-4D31-9A4A-7D1F9998E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132D-048B-4A6D-8C0A-A4A253328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5A0E9C-6FB4-4CE2-ABAD-B9DC6A6B6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9E4544-C88B-4846-99F2-80542DD54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460602-08C8-4993-B903-BCC2132EB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FCF16F-5BA1-4410-A384-DA9D60B42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DC59A8-9362-4629-BD65-B3B7AFB2C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1272A4-2651-479D-A37B-B82EE7705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2AB71B-5794-4F9A-9FD1-78D3ADF42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CCFEE0-CA0F-4C62-8B7C-0647D0739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DA36EB-A3BB-417C-8918-1601D81DD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D99CE2-9B23-4752-BD40-E014D5B84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3ED4-FFE1-4697-A6F4-2929C03E7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155C30-6E6F-411D-8191-39F088BF6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F089F3-A12C-4518-A544-976BC342F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7C5B82-CE70-45FD-AFC8-6BBADCBF6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17F179-0287-453E-ACA5-9251D6E60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F04D89-092C-4467-9C62-664DE5BAB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CEF0FF-D7A5-4CDA-865E-722F8B1D8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EB127D-A2CF-4B83-B2E5-194769364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458ECE-EFD1-4FDB-BFCF-AEC5C1993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580A4D-462C-446B-866C-202B43DE8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F3289D-EC6C-4AA5-BD5D-0E4EFB21C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D971-DECA-49BA-8E6E-53A8B7432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CBEBC6-5D68-4766-8FB6-4BF9C332C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0BF962-B362-4F2A-ABD6-82F781FE2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91E028-3051-40E9-9526-E0A524473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04117E-6FD5-4B05-B650-A3A9A04AF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3F3696-A70D-4269-BE03-7B59F344D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4FA08F-2150-42DF-BE83-77D52B0C2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F994A3-CCBE-4477-A9CA-ADAA45B32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FC6D9A-2A78-4875-B265-BF4C687E4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4FDA72-919F-4B09-8B1E-23DC7DFAC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977425-35FC-46C5-BA81-7EC31FB22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9D00-5E46-46B0-B83B-C4A02B3BD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220CA2-2547-4A84-84D2-C41CBA18C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77E3C0-5E30-46EA-9613-F5333B358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3BE0FC-FB45-4DAB-B71F-FEBAEA442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95A24A-A43B-46B7-918F-746918F9C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14F6F5-718A-41EF-851B-AA56B8AEC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7BAA1E-C672-4830-80CC-AD8CADC7C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173B23-2506-4A34-98B7-533B2CD52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10B7BD-94B6-4D49-B208-27E5798C6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BFA72B-1064-41FA-957B-02C6E2D32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5B21B2-F57A-4523-98BF-E8F264A53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1B04-5149-434C-A678-073D4A0DE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1B9D20-7EFD-4E6C-8BA8-3F1018275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4477F0-8AE2-4BCD-A1ED-535666143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42FF51-57C3-42EB-89C8-93DD58A21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21FFB4-0709-4456-8DD8-F59A59253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8AA061-8585-4E0D-8CD7-A1661E1F1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D95CF3-5AC8-41AD-887D-101E885F6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8A95CD-F373-4C0A-B8DA-C6D8A7E96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321E43-2A25-4B45-90DE-A2BBC6B2B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0CB705-342F-4AB7-A042-B5EEC2264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BF04F8-D647-4587-B4F4-978BBAB16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EC12-0B1C-49AB-9D47-0B916C0B2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2F07FB-3D4A-47FF-9E0C-59580A281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DA34B3-BC71-48EC-AD2B-ED3C95AB5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CBD20C-710E-4933-AFE4-10956D30D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A0760C-7E2D-4032-BFDF-4A1F3C419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88A051-652B-44A4-92F0-DFB6E9390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5EC1-0F41-430D-ABEB-8D7C2667A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A2CB4-4026-40F8-861A-65077165974F}" type="datetime">
              <a:rPr b="0" lang="en-MY" sz="1200" spc="-1" strike="noStrike">
                <a:solidFill>
                  <a:srgbClr val="b5a788"/>
                </a:solidFill>
                <a:latin typeface="Gill Sans MT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599EB-A0F8-4250-92C2-B01BC52BB2D6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0D074-68D4-427B-8E1C-A0F8CF807F6C}" type="datetime">
              <a:rPr b="0" lang="en-MY" sz="1200" spc="-1" strike="noStrike">
                <a:solidFill>
                  <a:srgbClr val="b5a788"/>
                </a:solidFill>
                <a:latin typeface="Gill Sans MT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1CBE3-9E10-4C2F-9401-3E7B735D4A37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2E1A9-2604-47B4-B161-823832580DDB}" type="datetime">
              <a:rPr b="0" lang="en-MY" sz="1200" spc="-1" strike="noStrike">
                <a:solidFill>
                  <a:srgbClr val="b5a788"/>
                </a:solidFill>
                <a:latin typeface="Gill Sans MT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A92FB-05CA-44E6-9734-5B553721E4A9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A04AE-568B-495A-A4CB-41A6E600A549}" type="datetime">
              <a:rPr b="0" lang="en-MY" sz="1200" spc="-1" strike="noStrike">
                <a:solidFill>
                  <a:srgbClr val="b5a788"/>
                </a:solidFill>
                <a:latin typeface="Gill Sans MT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6419B-29A5-481F-A85E-695D1F2F9FB3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6EB33-8EB2-4569-B7B3-69C8CD66F8B4}" type="datetime">
              <a:rPr b="0" lang="en-MY" sz="1200" spc="-1" strike="noStrike">
                <a:solidFill>
                  <a:srgbClr val="b5a788"/>
                </a:solidFill>
                <a:latin typeface="Gill Sans MT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0FC95-450A-44F4-9F73-0B0F32B6086D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FF930-941C-4278-AACE-4D5971D84B06}" type="datetime">
              <a:rPr b="0" lang="en-MY" sz="1200" spc="-1" strike="noStrike">
                <a:solidFill>
                  <a:srgbClr val="b5a788"/>
                </a:solidFill>
                <a:latin typeface="Gill Sans MT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054C1-072C-448A-A9A5-0A9BB592F968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EC51E-D38B-4267-809A-BF28259BB26C}" type="datetime">
              <a:rPr b="0" lang="en-MY" sz="1200" spc="-1" strike="noStrike">
                <a:solidFill>
                  <a:srgbClr val="b5a788"/>
                </a:solidFill>
                <a:latin typeface="Gill Sans MT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92C69-7DA5-405C-B98F-0F9CD01892FE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577960" y="2600280"/>
            <a:ext cx="6400800" cy="29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4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2314"/>
                </a:solidFill>
                <a:latin typeface="Gill Sans MT"/>
              </a:rPr>
              <a:t>MEDICAL THERAPY</a:t>
            </a:r>
            <a:br>
              <a:rPr sz="3600"/>
            </a:br>
            <a:r>
              <a:rPr b="1" lang="en-US" sz="2000" spc="-1" strike="noStrike">
                <a:solidFill>
                  <a:srgbClr val="572314"/>
                </a:solidFill>
                <a:latin typeface="Gill Sans MT"/>
              </a:rPr>
              <a:t>BY</a:t>
            </a:r>
            <a:br>
              <a:rPr sz="2000"/>
            </a:br>
            <a:r>
              <a:rPr b="1" lang="en-US" sz="2000" spc="-1" strike="noStrike">
                <a:solidFill>
                  <a:srgbClr val="572314"/>
                </a:solidFill>
                <a:latin typeface="Gill Sans MT"/>
              </a:rPr>
              <a:t>DR.  IDA SADJA’AH SACHLIN</a:t>
            </a:r>
            <a:br>
              <a:rPr sz="2000"/>
            </a:br>
            <a:r>
              <a:rPr b="1" lang="en-US" sz="2000" spc="-1" strike="noStrike">
                <a:solidFill>
                  <a:srgbClr val="572314"/>
                </a:solidFill>
                <a:latin typeface="Gill Sans MT"/>
              </a:rPr>
              <a:t>CONSULTANT OTORHINOLARYNGOLOGIST</a:t>
            </a:r>
            <a:br>
              <a:rPr sz="2000"/>
            </a:br>
            <a:endParaRPr b="0" lang="en-US" sz="2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577960" y="1066680"/>
            <a:ext cx="6400800" cy="15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17640" indent="0">
              <a:lnSpc>
                <a:spcPts val="22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000" spc="-1" strike="noStrike">
                <a:solidFill>
                  <a:srgbClr val="320e04"/>
                </a:solidFill>
                <a:latin typeface="Gill Sans MT"/>
              </a:rPr>
              <a:t>Training Module CPG Management of Rhinosinusitis in Adolescents &amp; Adult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27" name="Picture 3" descr=""/>
          <p:cNvPicPr/>
          <p:nvPr/>
        </p:nvPicPr>
        <p:blipFill>
          <a:blip r:embed="rId1"/>
          <a:stretch/>
        </p:blipFill>
        <p:spPr>
          <a:xfrm>
            <a:off x="108000" y="2943360"/>
            <a:ext cx="2087640" cy="3252600"/>
          </a:xfrm>
          <a:prstGeom prst="rect">
            <a:avLst/>
          </a:prstGeom>
          <a:ln w="0">
            <a:noFill/>
          </a:ln>
        </p:spPr>
      </p:pic>
      <p:sp>
        <p:nvSpPr>
          <p:cNvPr id="328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0E103-2010-405D-87A9-A85127975478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434960" y="3805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3900" spc="-1" strike="noStrike">
                <a:solidFill>
                  <a:srgbClr val="572314"/>
                </a:solidFill>
                <a:latin typeface="Gill Sans MT"/>
              </a:rPr>
              <a:t>Recommendation on antibiotics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4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1697B-1BCD-4F62-99C5-F43BAD7BFCDA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2" descr=""/>
          <p:cNvPicPr/>
          <p:nvPr/>
        </p:nvPicPr>
        <p:blipFill>
          <a:blip r:embed="rId1"/>
          <a:stretch/>
        </p:blipFill>
        <p:spPr>
          <a:xfrm>
            <a:off x="1219320" y="2449440"/>
            <a:ext cx="7772400" cy="24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300" spc="-1" strike="noStrike">
                <a:solidFill>
                  <a:srgbClr val="572314"/>
                </a:solidFill>
                <a:latin typeface="Gill Sans MT"/>
              </a:rPr>
              <a:t>Corticosteroids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1434600" y="1447560"/>
            <a:ext cx="7404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Gill Sans MT"/>
              </a:rPr>
              <a:t>Intranasal (INS) &amp; ora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Gill Sans MT"/>
              </a:rPr>
              <a:t>It </a:t>
            </a:r>
            <a:r>
              <a:rPr b="0" lang="en-MY" sz="3200" spc="-1" strike="noStrike">
                <a:solidFill>
                  <a:srgbClr val="ff0000"/>
                </a:solidFill>
                <a:latin typeface="Gill Sans MT"/>
              </a:rPr>
              <a:t>reduces the inflammation &amp; oedema </a:t>
            </a:r>
            <a:r>
              <a:rPr b="0" lang="en-MY" sz="3200" spc="-1" strike="noStrike">
                <a:solidFill>
                  <a:srgbClr val="000000"/>
                </a:solidFill>
                <a:latin typeface="Gill Sans MT"/>
              </a:rPr>
              <a:t>of the nasal mucous membrane rendering resolution of RS symptom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E3186-3300-4401-A022-3FFACBEB1197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Picture 5" descr=""/>
          <p:cNvPicPr/>
          <p:nvPr/>
        </p:nvPicPr>
        <p:blipFill>
          <a:blip r:embed="rId1"/>
          <a:stretch/>
        </p:blipFill>
        <p:spPr>
          <a:xfrm>
            <a:off x="1523880" y="3733920"/>
            <a:ext cx="2214720" cy="236196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3" descr=""/>
          <p:cNvPicPr/>
          <p:nvPr/>
        </p:nvPicPr>
        <p:blipFill>
          <a:blip r:embed="rId2"/>
          <a:stretch/>
        </p:blipFill>
        <p:spPr>
          <a:xfrm>
            <a:off x="4038480" y="3724200"/>
            <a:ext cx="2381400" cy="238140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4" descr=""/>
          <p:cNvPicPr/>
          <p:nvPr/>
        </p:nvPicPr>
        <p:blipFill>
          <a:blip r:embed="rId3"/>
          <a:stretch/>
        </p:blipFill>
        <p:spPr>
          <a:xfrm>
            <a:off x="6781680" y="3733920"/>
            <a:ext cx="1908360" cy="23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434960" y="3805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572314"/>
                </a:solidFill>
                <a:latin typeface="Gill Sans MT"/>
              </a:rPr>
              <a:t>Corticosteroids</a:t>
            </a:r>
            <a:r>
              <a:rPr b="1" lang="en-US" sz="2000" spc="-1" strike="noStrike">
                <a:solidFill>
                  <a:srgbClr val="572314"/>
                </a:solidFill>
                <a:latin typeface="Gill Sans MT"/>
              </a:rPr>
              <a:t>-2</a:t>
            </a:r>
            <a:r>
              <a:rPr b="1" lang="en-US" sz="4300" spc="-1" strike="noStrike">
                <a:solidFill>
                  <a:srgbClr val="572314"/>
                </a:solidFill>
                <a:latin typeface="Gill Sans MT"/>
              </a:rPr>
              <a:t>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1434960" y="158436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Gill Sans MT"/>
              </a:rPr>
              <a:t>Improve patency of  ostiomeatal complex by reduction in mucosal swell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mmunomodulato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6820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tabilise mast cell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6820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lock formation of inflammatory mediato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6820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hibit chemotaxis of inflammatory cell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4" name="Content Placeholder 6" descr=""/>
          <p:cNvPicPr/>
          <p:nvPr/>
        </p:nvPicPr>
        <p:blipFill>
          <a:blip r:embed="rId1"/>
          <a:srcRect l="16579" t="0" r="16757" b="0"/>
          <a:stretch/>
        </p:blipFill>
        <p:spPr>
          <a:xfrm>
            <a:off x="5218200" y="2117880"/>
            <a:ext cx="3494160" cy="3504960"/>
          </a:xfrm>
          <a:prstGeom prst="rect">
            <a:avLst/>
          </a:prstGeom>
          <a:ln w="0">
            <a:noFill/>
          </a:ln>
        </p:spPr>
      </p:pic>
      <p:sp>
        <p:nvSpPr>
          <p:cNvPr id="365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F2068-0DB1-4DC3-91B6-9CF854B5C499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434960" y="0"/>
            <a:ext cx="7499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300" spc="-1" strike="noStrike">
                <a:solidFill>
                  <a:srgbClr val="572314"/>
                </a:solidFill>
                <a:latin typeface="Gill Sans MT"/>
              </a:rPr>
              <a:t>INS corticosteroid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1219320" y="990720"/>
            <a:ext cx="769608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599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500" spc="-1" strike="noStrike">
                <a:solidFill>
                  <a:srgbClr val="000000"/>
                </a:solidFill>
                <a:latin typeface="Gill Sans MT"/>
              </a:rPr>
              <a:t>ARS: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-21744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200" spc="-1" strike="noStrike">
                <a:solidFill>
                  <a:srgbClr val="000000"/>
                </a:solidFill>
                <a:latin typeface="Gill Sans MT"/>
              </a:rPr>
              <a:t>2 good meta-analyses showed that INS </a:t>
            </a:r>
            <a:r>
              <a:rPr b="0" lang="en-MY" sz="2200" spc="-1" strike="noStrike">
                <a:solidFill>
                  <a:srgbClr val="ff0000"/>
                </a:solidFill>
                <a:latin typeface="Gill Sans MT"/>
              </a:rPr>
              <a:t>significantly improved symptoms of ARS</a:t>
            </a:r>
            <a:r>
              <a:rPr b="0" lang="en-MY" sz="2200" spc="-1" strike="noStrike">
                <a:solidFill>
                  <a:srgbClr val="000000"/>
                </a:solidFill>
                <a:latin typeface="Gill Sans MT"/>
              </a:rPr>
              <a:t> compared with placebo in </a:t>
            </a:r>
            <a:r>
              <a:rPr b="0" lang="en-MY" sz="2200" spc="-1" strike="noStrike">
                <a:solidFill>
                  <a:srgbClr val="ff0000"/>
                </a:solidFill>
                <a:latin typeface="Gill Sans MT"/>
              </a:rPr>
              <a:t>14 - 21 days.</a:t>
            </a:r>
            <a:r>
              <a:rPr b="0" lang="en-MY" sz="2200" spc="-1" strike="noStrike">
                <a:solidFill>
                  <a:srgbClr val="000000"/>
                </a:solidFill>
                <a:latin typeface="Gill Sans MT"/>
              </a:rPr>
              <a:t> However, the effects were small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-21744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200" spc="-1" strike="noStrike">
                <a:solidFill>
                  <a:srgbClr val="000000"/>
                </a:solidFill>
                <a:latin typeface="Gill Sans MT"/>
              </a:rPr>
              <a:t>Higher doses of mometasone furoate led to better improvement of symptoms. The side effects were mild to moderate</a:t>
            </a:r>
            <a:r>
              <a:rPr b="0" lang="en-MY" sz="1600" spc="-1" strike="noStrike">
                <a:solidFill>
                  <a:srgbClr val="000000"/>
                </a:solidFill>
                <a:latin typeface="Gill Sans MT"/>
              </a:rPr>
              <a:t>.</a:t>
            </a:r>
            <a:r>
              <a:rPr b="0" lang="en-MY" sz="1600" spc="-1" strike="noStrike" baseline="30000">
                <a:solidFill>
                  <a:srgbClr val="000000"/>
                </a:solidFill>
                <a:latin typeface="Gill Sans MT"/>
              </a:rPr>
              <a:t>34,  35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500" spc="-1" strike="noStrike">
                <a:solidFill>
                  <a:srgbClr val="000000"/>
                </a:solidFill>
                <a:latin typeface="Gill Sans MT"/>
              </a:rPr>
              <a:t>CRS: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-21744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200" spc="-1" strike="noStrike">
                <a:solidFill>
                  <a:srgbClr val="000000"/>
                </a:solidFill>
                <a:latin typeface="Gill Sans MT"/>
              </a:rPr>
              <a:t>2 meta-analyses found that INS given </a:t>
            </a:r>
            <a:r>
              <a:rPr b="0" lang="en-MY" sz="2200" spc="-1" strike="noStrike">
                <a:solidFill>
                  <a:srgbClr val="ff0000"/>
                </a:solidFill>
                <a:latin typeface="Gill Sans MT"/>
              </a:rPr>
              <a:t>between 16 &amp; 52 weeks duration</a:t>
            </a:r>
            <a:r>
              <a:rPr b="0" lang="en-MY" sz="2200" spc="-1" strike="noStrike">
                <a:solidFill>
                  <a:srgbClr val="000000"/>
                </a:solidFill>
                <a:latin typeface="Gill Sans MT"/>
              </a:rPr>
              <a:t> was </a:t>
            </a:r>
            <a:r>
              <a:rPr b="0" lang="en-MY" sz="2200" spc="-1" strike="noStrike">
                <a:solidFill>
                  <a:srgbClr val="ff0000"/>
                </a:solidFill>
                <a:latin typeface="Gill Sans MT"/>
              </a:rPr>
              <a:t>more efficacious </a:t>
            </a:r>
            <a:r>
              <a:rPr b="0" lang="en-MY" sz="2200" spc="-1" strike="noStrike">
                <a:solidFill>
                  <a:srgbClr val="000000"/>
                </a:solidFill>
                <a:latin typeface="Gill Sans MT"/>
              </a:rPr>
              <a:t>than placebo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15040" indent="-210240">
              <a:lnSpc>
                <a:spcPct val="80000"/>
              </a:lnSpc>
              <a:spcBef>
                <a:spcPts val="476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900" spc="-1" strike="noStrike">
                <a:solidFill>
                  <a:srgbClr val="000000"/>
                </a:solidFill>
                <a:latin typeface="Gill Sans MT"/>
              </a:rPr>
              <a:t>Reduction in polyp size with a mean difference of 0.43 (95% CI 0.25 to 0.61)</a:t>
            </a:r>
            <a:r>
              <a:rPr b="0" lang="en-MY" sz="1900" spc="-1" strike="noStrike" baseline="30000">
                <a:solidFill>
                  <a:srgbClr val="000000"/>
                </a:solidFill>
                <a:latin typeface="Gill Sans MT"/>
              </a:rPr>
              <a:t>36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lvl="2" marL="815040" indent="-210240">
              <a:lnSpc>
                <a:spcPct val="80000"/>
              </a:lnSpc>
              <a:spcBef>
                <a:spcPts val="476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900" spc="-1" strike="noStrike">
                <a:solidFill>
                  <a:srgbClr val="000000"/>
                </a:solidFill>
                <a:latin typeface="Gill Sans MT"/>
              </a:rPr>
              <a:t>Improvement of symptoms, SMD= - 0.37 (95% CI - 0.60 to - 0.13)</a:t>
            </a:r>
            <a:r>
              <a:rPr b="0" lang="en-MY" sz="1900" spc="-1" strike="noStrike" baseline="30000">
                <a:solidFill>
                  <a:srgbClr val="000000"/>
                </a:solidFill>
                <a:latin typeface="Gill Sans MT"/>
              </a:rPr>
              <a:t>37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lvl="2" marL="815040" indent="-210240">
              <a:lnSpc>
                <a:spcPct val="80000"/>
              </a:lnSpc>
              <a:spcBef>
                <a:spcPts val="476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900" spc="-1" strike="noStrike">
                <a:solidFill>
                  <a:srgbClr val="000000"/>
                </a:solidFill>
                <a:latin typeface="Gill Sans MT"/>
              </a:rPr>
              <a:t>No difference in side effect between the INS group &amp; placebo</a:t>
            </a:r>
            <a:r>
              <a:rPr b="0" lang="en-MY" sz="1900" spc="-1" strike="noStrike" baseline="30000">
                <a:solidFill>
                  <a:srgbClr val="000000"/>
                </a:solidFill>
                <a:latin typeface="Gill Sans MT"/>
              </a:rPr>
              <a:t>37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-21744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200" spc="-1" strike="noStrike">
                <a:solidFill>
                  <a:srgbClr val="000000"/>
                </a:solidFill>
                <a:latin typeface="Gill Sans MT"/>
              </a:rPr>
              <a:t>However, there was no difference in endoscopic score between the 2 groups (SMD= -0.37, 95% CI -0.84 to 0.11)</a:t>
            </a:r>
            <a:r>
              <a:rPr b="0" lang="en-MY" sz="2200" spc="-1" strike="noStrike" baseline="30000">
                <a:solidFill>
                  <a:srgbClr val="000000"/>
                </a:solidFill>
                <a:latin typeface="Gill Sans MT"/>
              </a:rPr>
              <a:t>37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-21744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-217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400" spc="-1" strike="noStrike" baseline="30000">
                <a:solidFill>
                  <a:srgbClr val="000000"/>
                </a:solidFill>
                <a:latin typeface="Gill Sans MT"/>
              </a:rPr>
              <a:t>34.  Zalmanovici Trestioreanu A,  et al.  Cochrane Database Syst Rev. 2013;(12):CD005149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-217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400" spc="-1" strike="noStrike" baseline="30000">
                <a:solidFill>
                  <a:srgbClr val="000000"/>
                </a:solidFill>
                <a:latin typeface="Gill Sans MT"/>
              </a:rPr>
              <a:t>35.  Hayward G,  et al.  Ann Fam Med. 2012;10(3):241–9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-217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400" spc="-1" strike="noStrike" baseline="30000">
                <a:solidFill>
                  <a:srgbClr val="000000"/>
                </a:solidFill>
                <a:latin typeface="Gill Sans MT"/>
              </a:rPr>
              <a:t>36.  Joe SA,  et al. Otolaryngol - Head Neck Surg. 2008;139(3):340–7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-217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400" spc="-1" strike="noStrike" baseline="30000">
                <a:solidFill>
                  <a:srgbClr val="000000"/>
                </a:solidFill>
                <a:latin typeface="Gill Sans MT"/>
              </a:rPr>
              <a:t>37.  Snidvongs K, et al.</a:t>
            </a:r>
            <a:r>
              <a:rPr b="0" lang="en-MY" sz="1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MY" sz="1400" spc="-1" strike="noStrike" baseline="30000">
                <a:solidFill>
                  <a:srgbClr val="000000"/>
                </a:solidFill>
                <a:latin typeface="Gill Sans MT"/>
              </a:rPr>
              <a:t>Cochrane Database Syst Rev. 2011;(8):CD009274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12BA7-B317-4302-8CFE-169A0069D84D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434960" y="35064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300" spc="-1" strike="noStrike">
                <a:solidFill>
                  <a:srgbClr val="572314"/>
                </a:solidFill>
                <a:latin typeface="Gill Sans MT"/>
              </a:rPr>
              <a:t>INS corticosteroids</a:t>
            </a:r>
            <a:r>
              <a:rPr b="1" lang="en-MY" sz="2000" spc="-1" strike="noStrike">
                <a:solidFill>
                  <a:srgbClr val="572314"/>
                </a:solidFill>
                <a:latin typeface="Gill Sans MT"/>
              </a:rPr>
              <a:t>-2</a:t>
            </a:r>
            <a:endParaRPr b="0" lang="en-US" sz="2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1434600" y="1523880"/>
            <a:ext cx="74041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Gill Sans MT"/>
              </a:rPr>
              <a:t>Common adverse effect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Gill Sans MT"/>
              </a:rPr>
              <a:t>Nasal irritation, mucosal bleeding &amp; crust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Gill Sans MT"/>
              </a:rPr>
              <a:t>Lessen the adverse effects by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Gill Sans MT"/>
              </a:rPr>
              <a:t>Propylene glycol contained in the prepara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Gill Sans MT"/>
              </a:rPr>
              <a:t>Switching to a aqueous delivery system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Gill Sans MT"/>
              </a:rPr>
              <a:t>Concomitant nasal saline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Gill Sans MT"/>
              </a:rPr>
              <a:t>Compliance &amp; correct techniqu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50825-D0E3-4D7C-A74A-A0BBF6BF0DB9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572314"/>
                </a:solidFill>
                <a:latin typeface="Gill Sans MT"/>
              </a:rPr>
              <a:t>Technique of INS administration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3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864C8-8A5B-41A8-AF21-5264504CE35A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Picture 2" descr="E:\Slide\p44.png"/>
          <p:cNvPicPr/>
          <p:nvPr/>
        </p:nvPicPr>
        <p:blipFill>
          <a:blip r:embed="rId1"/>
          <a:stretch/>
        </p:blipFill>
        <p:spPr>
          <a:xfrm>
            <a:off x="1663560" y="1371600"/>
            <a:ext cx="687096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434960" y="3805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300" spc="-1" strike="noStrike">
                <a:solidFill>
                  <a:srgbClr val="572314"/>
                </a:solidFill>
                <a:latin typeface="Gill Sans MT"/>
              </a:rPr>
              <a:t>Oral corticosteroids in AR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1459080" y="1599840"/>
            <a:ext cx="7380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Gill Sans MT"/>
              </a:rPr>
              <a:t>Oral corticosteroids (30 mg/day for 7 days) is </a:t>
            </a:r>
            <a:r>
              <a:rPr b="0" lang="en-MY" sz="3200" spc="-1" strike="noStrike">
                <a:solidFill>
                  <a:srgbClr val="ff0000"/>
                </a:solidFill>
                <a:latin typeface="Gill Sans MT"/>
              </a:rPr>
              <a:t>significantly</a:t>
            </a:r>
            <a:r>
              <a:rPr b="0" lang="en-MY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MY" sz="3200" spc="-1" strike="noStrike">
                <a:solidFill>
                  <a:srgbClr val="ff0000"/>
                </a:solidFill>
                <a:latin typeface="Gill Sans MT"/>
              </a:rPr>
              <a:t>more effective </a:t>
            </a:r>
            <a:r>
              <a:rPr b="0" lang="en-MY" sz="3200" spc="-1" strike="noStrike">
                <a:solidFill>
                  <a:srgbClr val="000000"/>
                </a:solidFill>
                <a:latin typeface="Gill Sans MT"/>
              </a:rPr>
              <a:t>than placebo in </a:t>
            </a:r>
            <a:r>
              <a:rPr b="0" lang="en-MY" sz="3200" spc="-1" strike="noStrike">
                <a:solidFill>
                  <a:srgbClr val="ff0000"/>
                </a:solidFill>
                <a:latin typeface="Gill Sans MT"/>
              </a:rPr>
              <a:t>improvement of symptoms up to 12 days</a:t>
            </a:r>
            <a:r>
              <a:rPr b="0" lang="en-MY" sz="32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Gill Sans MT"/>
              </a:rPr>
              <a:t>Side effects of oral corticosteroids are limited &amp; mild.</a:t>
            </a:r>
            <a:r>
              <a:rPr b="0" lang="en-MY" sz="3200" spc="-1" strike="noStrike" baseline="30000">
                <a:solidFill>
                  <a:srgbClr val="000000"/>
                </a:solidFill>
                <a:latin typeface="Gill Sans MT"/>
              </a:rPr>
              <a:t>38, 39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Gill Sans MT"/>
              </a:rPr>
              <a:t>Possibility of exacerbation of bacterial infectio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400" spc="-1" strike="noStrike">
                <a:solidFill>
                  <a:srgbClr val="000000"/>
                </a:solidFill>
                <a:latin typeface="Gill Sans MT"/>
              </a:rPr>
              <a:t>38.  Venekamp RP, et al. Fam Pract. 2012;29(6):706–12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400" spc="-1" strike="noStrike">
                <a:solidFill>
                  <a:srgbClr val="000000"/>
                </a:solidFill>
                <a:latin typeface="Gill Sans MT"/>
              </a:rPr>
              <a:t>39.  Venekamp RP, et al. CMAJ 2012;184(14):E751–7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7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2DA9A-6FE8-4A36-95D8-44A43C68FE4B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434960" y="3805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300" spc="-1" strike="noStrike">
                <a:solidFill>
                  <a:srgbClr val="572314"/>
                </a:solidFill>
                <a:latin typeface="Gill Sans MT"/>
              </a:rPr>
              <a:t>Oral corticosteroids in CR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1458720" y="1542600"/>
            <a:ext cx="73040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Gill Sans MT"/>
              </a:rPr>
              <a:t>Short-term oral corticosteroids (25 mg/day for 2 weeks) is significantly </a:t>
            </a:r>
            <a:r>
              <a:rPr b="0" lang="en-MY" sz="3200" spc="-1" strike="noStrike">
                <a:solidFill>
                  <a:srgbClr val="ff0000"/>
                </a:solidFill>
                <a:latin typeface="Gill Sans MT"/>
              </a:rPr>
              <a:t>more effective </a:t>
            </a:r>
            <a:r>
              <a:rPr b="0" lang="en-MY" sz="3200" spc="-1" strike="noStrike">
                <a:solidFill>
                  <a:srgbClr val="000000"/>
                </a:solidFill>
                <a:latin typeface="Gill Sans MT"/>
              </a:rPr>
              <a:t>than placebo </a:t>
            </a:r>
            <a:r>
              <a:rPr b="0" lang="en-MY" sz="3200" spc="-1" strike="noStrike">
                <a:solidFill>
                  <a:srgbClr val="ff0000"/>
                </a:solidFill>
                <a:latin typeface="Gill Sans MT"/>
              </a:rPr>
              <a:t>in reduction of nasal polyp size &amp; hyposmia score up to 10 weeks</a:t>
            </a:r>
            <a:r>
              <a:rPr b="0" lang="en-MY" sz="32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Gill Sans MT"/>
              </a:rPr>
              <a:t>Oral corticosteroids causes transient suppression of adrenal function &amp; increase bone turnover. </a:t>
            </a:r>
            <a:r>
              <a:rPr b="0" lang="en-MY" sz="3200" spc="-1" strike="noStrike" baseline="30000">
                <a:solidFill>
                  <a:srgbClr val="000000"/>
                </a:solidFill>
                <a:latin typeface="Gill Sans MT"/>
              </a:rPr>
              <a:t>40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4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en-MY" sz="1400" spc="-1" strike="noStrike">
                <a:solidFill>
                  <a:srgbClr val="000000"/>
                </a:solidFill>
                <a:latin typeface="Gill Sans MT"/>
              </a:rPr>
              <a:t>40.  Vaidyanathan S, et al. Ann Intern Med. 2011;154(5):293-302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0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63082-0603-4622-A921-9E5200F177B8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371240" y="380520"/>
            <a:ext cx="740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3900" spc="-1" strike="noStrike">
                <a:solidFill>
                  <a:srgbClr val="572314"/>
                </a:solidFill>
                <a:latin typeface="Gill Sans MT"/>
              </a:rPr>
              <a:t>Recommendation on corticosteroids 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2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282C4-DDE7-4FE0-87D6-7FF337947A5E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2" descr=""/>
          <p:cNvPicPr/>
          <p:nvPr/>
        </p:nvPicPr>
        <p:blipFill>
          <a:blip r:embed="rId1"/>
          <a:stretch/>
        </p:blipFill>
        <p:spPr>
          <a:xfrm>
            <a:off x="1143000" y="2560680"/>
            <a:ext cx="7848720" cy="21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434960" y="35064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300" spc="-1" strike="noStrike">
                <a:solidFill>
                  <a:srgbClr val="572314"/>
                </a:solidFill>
                <a:latin typeface="Gill Sans MT"/>
              </a:rPr>
              <a:t>Saline irrigation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1218960" y="1523520"/>
            <a:ext cx="7715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Gill Sans MT"/>
              </a:rPr>
              <a:t>Facilitates mechanical removal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Gill Sans MT"/>
              </a:rPr>
              <a:t>mucu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Gill Sans MT"/>
              </a:rPr>
              <a:t>infective agents 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Gill Sans MT"/>
              </a:rPr>
              <a:t>inflammatory mediator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Gill Sans MT"/>
              </a:rPr>
              <a:t>Decreases crusting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Gill Sans MT"/>
              </a:rPr>
              <a:t>Increases mucociliary clearance (MCC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Gill Sans MT"/>
              </a:rPr>
              <a:t>Nasal saline irrigation is recommended to be used in ARS.</a:t>
            </a:r>
            <a:r>
              <a:rPr b="0" lang="en-MY" sz="3200" spc="-1" strike="noStrike" baseline="30000">
                <a:solidFill>
                  <a:srgbClr val="000000"/>
                </a:solidFill>
                <a:latin typeface="Gill Sans MT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6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B89D8-8F39-426B-B0EC-A15ED8FB938F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34960" y="42660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300" spc="-1" strike="noStrike">
                <a:solidFill>
                  <a:srgbClr val="000000"/>
                </a:solidFill>
                <a:latin typeface="Gill Sans MT"/>
              </a:rPr>
              <a:t>Learning Objectiv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1434600" y="1599840"/>
            <a:ext cx="7404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Gill Sans MT"/>
              </a:rPr>
              <a:t>To differentiate between acute rhinosinusitis &amp; chronic rhinosinusiti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Gill Sans MT"/>
              </a:rPr>
              <a:t>To learn on medical treatments available for ARS &amp; CR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Gill Sans MT"/>
              </a:rPr>
              <a:t>The know the indications &amp; side effects for each medical treatment for ARS &amp; CR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4EDBF-B780-4BB0-9EDF-652FAFB261E2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434960" y="35064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300" spc="-1" strike="noStrike">
                <a:solidFill>
                  <a:srgbClr val="572314"/>
                </a:solidFill>
                <a:latin typeface="Gill Sans MT"/>
              </a:rPr>
              <a:t>Saline irrigation</a:t>
            </a:r>
            <a:r>
              <a:rPr b="1" lang="en-MY" sz="2000" spc="-1" strike="noStrike">
                <a:solidFill>
                  <a:srgbClr val="572314"/>
                </a:solidFill>
                <a:latin typeface="Gill Sans MT"/>
              </a:rPr>
              <a:t>-2</a:t>
            </a:r>
            <a:endParaRPr b="0" lang="en-US" sz="2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1434600" y="1523880"/>
            <a:ext cx="73789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Gill Sans MT"/>
              </a:rPr>
              <a:t>Cochrane systematic review:</a:t>
            </a:r>
            <a:r>
              <a:rPr b="0" lang="en-MY" sz="3200" spc="-1" strike="noStrike" baseline="30000">
                <a:solidFill>
                  <a:srgbClr val="000000"/>
                </a:solidFill>
                <a:latin typeface="Gill Sans MT"/>
              </a:rPr>
              <a:t>41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575640" indent="-2127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Gill Sans MT"/>
              </a:rPr>
              <a:t>saline irrigation was</a:t>
            </a:r>
            <a:r>
              <a:rPr b="0" lang="en-MY" sz="2800" spc="-1" strike="noStrike">
                <a:solidFill>
                  <a:srgbClr val="ff0000"/>
                </a:solidFill>
                <a:latin typeface="Gill Sans MT"/>
              </a:rPr>
              <a:t> efficacious as a </a:t>
            </a:r>
            <a:r>
              <a:rPr b="0" lang="en-MY" sz="2800" spc="-1" strike="noStrike" u="sng">
                <a:solidFill>
                  <a:srgbClr val="ff0000"/>
                </a:solidFill>
                <a:uFillTx/>
                <a:latin typeface="Gill Sans MT"/>
              </a:rPr>
              <a:t>treatment adjunct</a:t>
            </a:r>
            <a:r>
              <a:rPr b="0" lang="en-MY" sz="2800" spc="-1" strike="noStrike">
                <a:solidFill>
                  <a:srgbClr val="ff0000"/>
                </a:solidFill>
                <a:latin typeface="Gill Sans MT"/>
              </a:rPr>
              <a:t> </a:t>
            </a:r>
            <a:r>
              <a:rPr b="0" lang="en-MY" sz="2800" spc="-1" strike="noStrike">
                <a:solidFill>
                  <a:srgbClr val="000000"/>
                </a:solidFill>
                <a:latin typeface="Gill Sans MT"/>
              </a:rPr>
              <a:t>for managing</a:t>
            </a:r>
            <a:r>
              <a:rPr b="0" lang="en-MY" sz="2800" spc="-1" strike="noStrike">
                <a:solidFill>
                  <a:srgbClr val="ff0000"/>
                </a:solidFill>
                <a:latin typeface="Gill Sans MT"/>
              </a:rPr>
              <a:t> the symptoms of CRS </a:t>
            </a:r>
            <a:r>
              <a:rPr b="0" lang="en-MY" sz="2800" spc="-1" strike="noStrike">
                <a:solidFill>
                  <a:srgbClr val="000000"/>
                </a:solidFill>
                <a:latin typeface="Gill Sans MT"/>
              </a:rPr>
              <a:t>(SMD=1.42, 95% CI 1.01 to 1.84)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75640" indent="-2127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ff0000"/>
                </a:solidFill>
                <a:latin typeface="Gill Sans MT"/>
              </a:rPr>
              <a:t>no difference </a:t>
            </a:r>
            <a:r>
              <a:rPr b="0" lang="en-MY" sz="2800" spc="-1" strike="noStrike">
                <a:solidFill>
                  <a:srgbClr val="000000"/>
                </a:solidFill>
                <a:latin typeface="Gill Sans MT"/>
              </a:rPr>
              <a:t>in the efficacy between isotonic &amp; hypertonic saline irrigation (p= 0.14)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 baseline="30000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en-MY" sz="1400" spc="-1" strike="noStrike">
                <a:solidFill>
                  <a:srgbClr val="000000"/>
                </a:solidFill>
                <a:latin typeface="Gill Sans MT"/>
              </a:rPr>
              <a:t>41. Harvey R, et al. Evidence-Based Child Heal A Cochrane Rev J 2008;3(3):459–95:CD006394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9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BF353-C4FC-42A9-92A5-7D20D1A042D1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434960" y="35064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300" spc="-1" strike="noStrike">
                <a:solidFill>
                  <a:srgbClr val="572314"/>
                </a:solidFill>
                <a:latin typeface="Gill Sans MT"/>
              </a:rPr>
              <a:t>Saline irrigation</a:t>
            </a:r>
            <a:r>
              <a:rPr b="1" lang="en-MY" sz="2000" spc="-1" strike="noStrike">
                <a:solidFill>
                  <a:srgbClr val="572314"/>
                </a:solidFill>
                <a:latin typeface="Gill Sans MT"/>
              </a:rPr>
              <a:t>-3</a:t>
            </a:r>
            <a:endParaRPr b="0" lang="en-US" sz="2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1434600" y="1523520"/>
            <a:ext cx="74041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Gill Sans MT"/>
              </a:rPr>
              <a:t>Adverse events are minor:</a:t>
            </a:r>
            <a:r>
              <a:rPr b="0" lang="en-MY" sz="3200" spc="-1" strike="noStrike" baseline="30000">
                <a:solidFill>
                  <a:srgbClr val="000000"/>
                </a:solidFill>
                <a:latin typeface="Gill Sans MT"/>
              </a:rPr>
              <a:t>41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Gill Sans MT"/>
              </a:rPr>
              <a:t>nasal burn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Gill Sans MT"/>
              </a:rPr>
              <a:t>irrita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Gill Sans MT"/>
              </a:rPr>
              <a:t>nausea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2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6E1A1-86CC-4856-9B2F-B459D6EA2E99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434960" y="3805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3900" spc="-1" strike="noStrike">
                <a:solidFill>
                  <a:srgbClr val="572314"/>
                </a:solidFill>
                <a:latin typeface="Gill Sans MT"/>
              </a:rPr>
              <a:t>Recommendation on saline irrigation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32C2C-885E-4F61-BAC7-B5C0C23FDA9F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Picture 2" descr=""/>
          <p:cNvPicPr/>
          <p:nvPr/>
        </p:nvPicPr>
        <p:blipFill>
          <a:blip r:embed="rId1"/>
          <a:stretch/>
        </p:blipFill>
        <p:spPr>
          <a:xfrm>
            <a:off x="1219320" y="2963880"/>
            <a:ext cx="7696080" cy="11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300" spc="-1" strike="noStrike">
                <a:solidFill>
                  <a:srgbClr val="572314"/>
                </a:solidFill>
                <a:latin typeface="Gill Sans MT"/>
              </a:rPr>
              <a:t>Anti-histamin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1434600" y="1447560"/>
            <a:ext cx="7404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000" spc="-1" strike="noStrike">
                <a:solidFill>
                  <a:srgbClr val="000000"/>
                </a:solidFill>
                <a:latin typeface="Gill Sans MT"/>
              </a:rPr>
              <a:t>There is an increase prevalence of allergic rhinitis (AR) in patients with CRS, although the role of allergy in the development of CRS remains unclear.</a:t>
            </a:r>
            <a:r>
              <a:rPr b="0" lang="en-MY" sz="3000" spc="-1" strike="noStrike" baseline="30000">
                <a:solidFill>
                  <a:srgbClr val="000000"/>
                </a:solidFill>
                <a:latin typeface="Gill Sans MT"/>
              </a:rPr>
              <a:t>23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000" spc="-1" strike="noStrike">
                <a:solidFill>
                  <a:srgbClr val="ff0000"/>
                </a:solidFill>
                <a:latin typeface="Gill Sans MT"/>
              </a:rPr>
              <a:t>Antihistamine controls sinusitis symptoms in AR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000" spc="-1" strike="noStrike">
                <a:solidFill>
                  <a:srgbClr val="000000"/>
                </a:solidFill>
                <a:latin typeface="Gill Sans MT"/>
              </a:rPr>
              <a:t>Current data yields </a:t>
            </a:r>
            <a:r>
              <a:rPr b="0" lang="en-MY" sz="3000" spc="-1" strike="noStrike">
                <a:solidFill>
                  <a:srgbClr val="ff0000"/>
                </a:solidFill>
                <a:latin typeface="Gill Sans MT"/>
              </a:rPr>
              <a:t>insufficient evidence to recommend antihistamines </a:t>
            </a:r>
            <a:r>
              <a:rPr b="0" lang="en-MY" sz="3000" spc="-1" strike="noStrike">
                <a:solidFill>
                  <a:srgbClr val="000000"/>
                </a:solidFill>
                <a:latin typeface="Gill Sans MT"/>
              </a:rPr>
              <a:t>for treatment of CRS in </a:t>
            </a:r>
            <a:r>
              <a:rPr b="0" lang="en-MY" sz="3000" spc="-1" strike="noStrike">
                <a:solidFill>
                  <a:srgbClr val="ff0000"/>
                </a:solidFill>
                <a:latin typeface="Gill Sans MT"/>
              </a:rPr>
              <a:t>non-allergic rhinitis </a:t>
            </a:r>
            <a:r>
              <a:rPr b="0" lang="en-MY" sz="3000" spc="-1" strike="noStrike">
                <a:solidFill>
                  <a:srgbClr val="000000"/>
                </a:solidFill>
                <a:latin typeface="Gill Sans MT"/>
              </a:rPr>
              <a:t>patients.</a:t>
            </a:r>
            <a:r>
              <a:rPr b="0" lang="en-MY" sz="3000" spc="-1" strike="noStrike" baseline="30000">
                <a:solidFill>
                  <a:srgbClr val="000000"/>
                </a:solidFill>
                <a:latin typeface="Gill Sans MT"/>
              </a:rPr>
              <a:t>1, 23, 42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000" spc="-1" strike="noStrike" baseline="30000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en-MY" sz="1400" spc="-1" strike="noStrike">
                <a:solidFill>
                  <a:srgbClr val="000000"/>
                </a:solidFill>
                <a:latin typeface="Gill Sans MT"/>
              </a:rPr>
              <a:t>23. Desrosiers M, et al. J Otolaryngol - Head Neck Surg BioMed Central Ltd; 2011;40(SUPPL. 2):99–142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4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en-MY" sz="1400" spc="-1" strike="noStrike">
                <a:solidFill>
                  <a:srgbClr val="000000"/>
                </a:solidFill>
                <a:latin typeface="Gill Sans MT"/>
              </a:rPr>
              <a:t>42. Braun JJ, et al. Allergy. 1997;52(6):650–5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8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26BEA-F9DB-4A10-8110-7EE96C351A06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434960" y="35064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300" spc="-1" strike="noStrike">
                <a:solidFill>
                  <a:srgbClr val="572314"/>
                </a:solidFill>
                <a:latin typeface="Gill Sans MT"/>
              </a:rPr>
              <a:t>Anti-histamine</a:t>
            </a:r>
            <a:r>
              <a:rPr b="1" lang="en-MY" sz="2000" spc="-1" strike="noStrike">
                <a:solidFill>
                  <a:srgbClr val="572314"/>
                </a:solidFill>
                <a:latin typeface="Gill Sans MT"/>
              </a:rPr>
              <a:t>-2</a:t>
            </a:r>
            <a:endParaRPr b="0" lang="en-US" sz="2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1434600" y="1523520"/>
            <a:ext cx="7404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Gill Sans MT"/>
              </a:rPr>
              <a:t>First generatio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Gill Sans MT"/>
              </a:rPr>
              <a:t>chlorphenarimine, diphenhydramine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Gill Sans MT"/>
              </a:rPr>
              <a:t>Second generatio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Gill Sans MT"/>
              </a:rPr>
              <a:t>loratadine, terfenadine, cetrizine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Gill Sans MT"/>
              </a:rPr>
              <a:t>Third generatio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Gill Sans MT"/>
              </a:rPr>
              <a:t>fexofenadine, desloratadine, levocetrizine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Gill Sans MT"/>
              </a:rPr>
              <a:t>The newer generations are less sedativ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D56C1-3120-4D29-91E4-198121F9F448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3900" spc="-1" strike="noStrike">
                <a:solidFill>
                  <a:srgbClr val="572314"/>
                </a:solidFill>
                <a:latin typeface="Gill Sans MT"/>
              </a:rPr>
              <a:t>Recommendation on anti-histamine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3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7A0A4-688F-4DE8-9277-6295F3877000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Picture 2" descr=""/>
          <p:cNvPicPr/>
          <p:nvPr/>
        </p:nvPicPr>
        <p:blipFill>
          <a:blip r:embed="rId1"/>
          <a:stretch/>
        </p:blipFill>
        <p:spPr>
          <a:xfrm>
            <a:off x="1219320" y="2771640"/>
            <a:ext cx="7772400" cy="16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434960" y="35064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300" spc="-1" strike="noStrike">
                <a:solidFill>
                  <a:srgbClr val="572314"/>
                </a:solidFill>
                <a:latin typeface="Gill Sans MT"/>
              </a:rPr>
              <a:t>Other medication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1434600" y="1523520"/>
            <a:ext cx="7404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Gill Sans MT"/>
              </a:rPr>
              <a:t>There is insufficient recent evidence on the following treatment in rhinosinusitis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Gill Sans MT"/>
              </a:rPr>
              <a:t>analgesic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Gill Sans MT"/>
              </a:rPr>
              <a:t>decongestant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Gill Sans MT"/>
              </a:rPr>
              <a:t>mucolytic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Gill Sans MT"/>
              </a:rPr>
              <a:t>antiviral agent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7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3B75B-09B9-4AD3-B0F5-A1F0C613C189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434960" y="3805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3900" spc="-1" strike="noStrike">
                <a:solidFill>
                  <a:srgbClr val="572314"/>
                </a:solidFill>
                <a:latin typeface="Gill Sans MT"/>
              </a:rPr>
              <a:t>Other medications - analgesics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1434600" y="1553760"/>
            <a:ext cx="7404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Gill Sans MT"/>
              </a:rPr>
              <a:t>Provide symptomatic relief in both viral &amp; bacterial infections of the upper respiratory passages in RS</a:t>
            </a:r>
            <a:r>
              <a:rPr b="0" lang="en-MY" sz="3200" spc="-1" strike="noStrike" baseline="30000">
                <a:solidFill>
                  <a:srgbClr val="000000"/>
                </a:solidFill>
                <a:latin typeface="Gill Sans MT"/>
              </a:rPr>
              <a:t>23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C3E3B-5F3F-4794-AAF7-13806E43A3DE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434960" y="35064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3900" spc="-1" strike="noStrike">
                <a:solidFill>
                  <a:srgbClr val="572314"/>
                </a:solidFill>
                <a:latin typeface="Gill Sans MT"/>
              </a:rPr>
              <a:t>Other medications - decongestants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1434600" y="1752120"/>
            <a:ext cx="7404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000" spc="-1" strike="noStrike">
                <a:solidFill>
                  <a:srgbClr val="000000"/>
                </a:solidFill>
                <a:latin typeface="Gill Sans MT"/>
              </a:rPr>
              <a:t>MCC improves significantly with oxymetazoline after 20 minutes.</a:t>
            </a:r>
            <a:r>
              <a:rPr b="0" lang="en-MY" sz="3000" spc="-1" strike="noStrike" baseline="30000">
                <a:solidFill>
                  <a:srgbClr val="000000"/>
                </a:solidFill>
                <a:latin typeface="Gill Sans MT"/>
              </a:rPr>
              <a:t>44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000" spc="-1" strike="noStrike">
                <a:solidFill>
                  <a:srgbClr val="000000"/>
                </a:solidFill>
                <a:latin typeface="Gill Sans MT"/>
              </a:rPr>
              <a:t>Topical or systemic decongestants may offer additional symptomatic relief in VRS, however their ability to prevent ABRS is unproven.</a:t>
            </a:r>
            <a:r>
              <a:rPr b="0" lang="en-MY" sz="3000" spc="-1" strike="noStrike" baseline="30000">
                <a:solidFill>
                  <a:srgbClr val="000000"/>
                </a:solidFill>
                <a:latin typeface="Gill Sans MT"/>
              </a:rPr>
              <a:t>19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000" spc="-1" strike="noStrike">
                <a:solidFill>
                  <a:srgbClr val="000000"/>
                </a:solidFill>
                <a:latin typeface="Gill Sans MT"/>
              </a:rPr>
              <a:t>In local context, decongestants is prescribed in ARS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000" spc="-1" strike="noStrike">
                <a:solidFill>
                  <a:srgbClr val="000000"/>
                </a:solidFill>
                <a:latin typeface="Gill Sans MT"/>
              </a:rPr>
              <a:t>  </a:t>
            </a:r>
            <a:r>
              <a:rPr b="0" lang="en-MY" sz="1400" spc="-1" strike="noStrike">
                <a:solidFill>
                  <a:srgbClr val="000000"/>
                </a:solidFill>
                <a:latin typeface="Gill Sans MT"/>
              </a:rPr>
              <a:t>19. Rosenfeld RM, et al. Otolaryngol - Head Neck Surg (United States) 2015;152:S1–39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400" spc="-1" strike="noStrike">
                <a:solidFill>
                  <a:srgbClr val="000000"/>
                </a:solidFill>
                <a:latin typeface="Gill Sans MT"/>
              </a:rPr>
              <a:t>     </a:t>
            </a:r>
            <a:r>
              <a:rPr b="0" lang="en-MY" sz="1400" spc="-1" strike="noStrike">
                <a:solidFill>
                  <a:srgbClr val="000000"/>
                </a:solidFill>
                <a:latin typeface="Gill Sans MT"/>
              </a:rPr>
              <a:t>44. Inanli S,  et al. Laryngoscope. 2002;112(2):320–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3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83699-2DE7-4CBD-AAED-8ED7E5814EA4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434960" y="3805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3900" spc="-1" strike="noStrike">
                <a:solidFill>
                  <a:srgbClr val="572314"/>
                </a:solidFill>
                <a:latin typeface="Gill Sans MT"/>
              </a:rPr>
              <a:t>Other medications - decongestants</a:t>
            </a:r>
            <a:r>
              <a:rPr b="1" lang="en-MY" sz="2000" spc="-1" strike="noStrike">
                <a:solidFill>
                  <a:srgbClr val="572314"/>
                </a:solidFill>
                <a:latin typeface="Gill Sans MT"/>
              </a:rPr>
              <a:t>-2</a:t>
            </a:r>
            <a:endParaRPr b="0" lang="en-US" sz="2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B7FC3-E41A-4427-8CD4-AFC0235822D2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Picture 2" descr=""/>
          <p:cNvPicPr/>
          <p:nvPr/>
        </p:nvPicPr>
        <p:blipFill>
          <a:blip r:embed="rId1"/>
          <a:stretch/>
        </p:blipFill>
        <p:spPr>
          <a:xfrm>
            <a:off x="1219320" y="2685960"/>
            <a:ext cx="777240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3805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572314"/>
                </a:solidFill>
                <a:latin typeface="Gill Sans MT"/>
              </a:rPr>
              <a:t>Introduction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1434600" y="1599840"/>
            <a:ext cx="7404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Gill Sans MT"/>
              </a:rPr>
              <a:t>Acute Rhinosinusitis (ARS), viral or bacterial in origin, is usually treated medically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Gill Sans MT"/>
              </a:rPr>
              <a:t>Viral RS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Gill Sans MT"/>
              </a:rPr>
              <a:t>self-limiting diseas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Gill Sans MT"/>
              </a:rPr>
              <a:t>symptomatic relief - analgesic or antipyretic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1B713-3FB8-4AD2-85FB-A2B9692B1338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434960" y="35064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3900" spc="-1" strike="noStrike">
                <a:solidFill>
                  <a:srgbClr val="572314"/>
                </a:solidFill>
                <a:latin typeface="Gill Sans MT"/>
              </a:rPr>
              <a:t>Other medications - mucolytics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1434600" y="1523520"/>
            <a:ext cx="7404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Gill Sans MT"/>
              </a:rPr>
              <a:t>There is no evidence to support the use of mucolytics in RS.</a:t>
            </a:r>
            <a:r>
              <a:rPr b="0" lang="en-MY" sz="3200" spc="-1" strike="noStrike" baseline="30000">
                <a:solidFill>
                  <a:srgbClr val="000000"/>
                </a:solidFill>
                <a:latin typeface="Gill Sans MT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Gill Sans MT"/>
              </a:rPr>
              <a:t>Commonly available mucolytic are bromhexine and guaifenesin -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as not proven to be effective in reducing symptoms of sinusiti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59805-4527-4884-9511-E4C60C710985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434960" y="35064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3900" spc="-1" strike="noStrike">
                <a:solidFill>
                  <a:srgbClr val="572314"/>
                </a:solidFill>
                <a:latin typeface="Gill Sans MT"/>
              </a:rPr>
              <a:t>Other medications - antiviral agents 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1434600" y="1828440"/>
            <a:ext cx="7404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Gill Sans MT"/>
              </a:rPr>
              <a:t>There is no evidence of antiviral agents used effectively in treating patients with RS.</a:t>
            </a:r>
            <a:r>
              <a:rPr b="0" lang="en-MY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2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C10A3-7327-494A-B7E3-64AA8952DADC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434960" y="3805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3900" spc="-1" strike="noStrike">
                <a:solidFill>
                  <a:srgbClr val="572314"/>
                </a:solidFill>
                <a:latin typeface="Gill Sans MT"/>
              </a:rPr>
              <a:t>Summary of treatment relevance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4" name="Slide Number Placeholder 1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001B9-3891-4CE8-86F0-F1B151096AE5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Picture 5" descr=""/>
          <p:cNvPicPr/>
          <p:nvPr/>
        </p:nvPicPr>
        <p:blipFill>
          <a:blip r:embed="rId1"/>
          <a:stretch/>
        </p:blipFill>
        <p:spPr>
          <a:xfrm>
            <a:off x="1295280" y="1982880"/>
            <a:ext cx="7593120" cy="33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3900" spc="-1" strike="noStrike">
                <a:solidFill>
                  <a:srgbClr val="572314"/>
                </a:solidFill>
                <a:latin typeface="Gill Sans MT"/>
              </a:rPr>
              <a:t>Medication dosage, indications &amp; special precautions in RS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2E6D5-A150-44C3-B48F-C867B91E4392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Picture 3" descr=""/>
          <p:cNvPicPr/>
          <p:nvPr/>
        </p:nvPicPr>
        <p:blipFill>
          <a:blip r:embed="rId1"/>
          <a:stretch/>
        </p:blipFill>
        <p:spPr>
          <a:xfrm>
            <a:off x="1852560" y="1676520"/>
            <a:ext cx="6377040" cy="48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434960" y="7596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3900" spc="-1" strike="noStrike">
                <a:solidFill>
                  <a:srgbClr val="572314"/>
                </a:solidFill>
                <a:latin typeface="Gill Sans MT"/>
              </a:rPr>
              <a:t>Medication dosage, indications &amp; special precautions in RS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0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313E5-429E-4D84-A839-CD314DF2FBA0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Picture 4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605808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434960" y="152280"/>
            <a:ext cx="74995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3900" spc="-1" strike="noStrike">
                <a:solidFill>
                  <a:srgbClr val="572314"/>
                </a:solidFill>
                <a:latin typeface="Gill Sans MT"/>
              </a:rPr>
              <a:t>COMPLEMENTARY &amp; ALTERNATIVE MEDICINES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1434960" y="1371600"/>
            <a:ext cx="7499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000" spc="-1" strike="noStrike">
                <a:solidFill>
                  <a:srgbClr val="000000"/>
                </a:solidFill>
                <a:latin typeface="Gill Sans MT"/>
              </a:rPr>
              <a:t>There is limited evidence of herbal medications use as adjunct treatment in AR.</a:t>
            </a:r>
            <a:r>
              <a:rPr b="0" lang="en-MY" sz="3000" spc="-1" strike="noStrike" baseline="30000">
                <a:solidFill>
                  <a:srgbClr val="000000"/>
                </a:solidFill>
                <a:latin typeface="Gill Sans MT"/>
              </a:rPr>
              <a:t>50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000" spc="-1" strike="noStrike">
                <a:solidFill>
                  <a:srgbClr val="000000"/>
                </a:solidFill>
                <a:latin typeface="Gill Sans MT"/>
              </a:rPr>
              <a:t>Acupuncture shows </a:t>
            </a:r>
            <a:r>
              <a:rPr b="0" lang="en-MY" sz="3000" spc="-1" strike="noStrike">
                <a:solidFill>
                  <a:srgbClr val="ff0000"/>
                </a:solidFill>
                <a:latin typeface="Gill Sans MT"/>
              </a:rPr>
              <a:t>no significant improvement</a:t>
            </a:r>
            <a:r>
              <a:rPr b="0" lang="en-MY" sz="3000" spc="-1" strike="noStrike">
                <a:solidFill>
                  <a:srgbClr val="000000"/>
                </a:solidFill>
                <a:latin typeface="Gill Sans MT"/>
              </a:rPr>
              <a:t> in symptoms score, quality of life &amp; CT scan findings compared with conventional treatment in CRS.</a:t>
            </a:r>
            <a:r>
              <a:rPr b="0" lang="en-MY" sz="3000" spc="-1" strike="noStrike" baseline="30000">
                <a:solidFill>
                  <a:srgbClr val="000000"/>
                </a:solidFill>
                <a:latin typeface="Gill Sans MT"/>
              </a:rPr>
              <a:t>51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3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en-MY" sz="1400" spc="-1" strike="noStrike">
                <a:solidFill>
                  <a:srgbClr val="000000"/>
                </a:solidFill>
                <a:latin typeface="Gill Sans MT"/>
              </a:rPr>
              <a:t>50. Guo R, et al. Otolaryngol - Head Neck Surg. 2006;135(4):496–506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4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en-MY" sz="1400" spc="-1" strike="noStrike">
                <a:solidFill>
                  <a:srgbClr val="000000"/>
                </a:solidFill>
                <a:latin typeface="Gill Sans MT"/>
              </a:rPr>
              <a:t>51. Rössberg E,  et al. Complement Ther Med. 2005;13(1):4–10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4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88AC4-2044-4BBF-912C-8B8F7F1DA73C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3" descr=""/>
          <p:cNvPicPr/>
          <p:nvPr/>
        </p:nvPicPr>
        <p:blipFill>
          <a:blip r:embed="rId1"/>
          <a:stretch/>
        </p:blipFill>
        <p:spPr>
          <a:xfrm>
            <a:off x="1143000" y="4710240"/>
            <a:ext cx="7848720" cy="7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434960" y="76320"/>
            <a:ext cx="7499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3200" spc="-1" strike="noStrike">
                <a:solidFill>
                  <a:srgbClr val="572314"/>
                </a:solidFill>
                <a:latin typeface="Gill Sans MT"/>
              </a:rPr>
              <a:t>Management of ARS for primary care &amp; non-ORL centre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5F857-96A1-4421-AF25-A3C035D314EF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8" name="Picture 5" descr=""/>
          <p:cNvPicPr/>
          <p:nvPr/>
        </p:nvPicPr>
        <p:blipFill>
          <a:blip r:embed="rId1"/>
          <a:stretch/>
        </p:blipFill>
        <p:spPr>
          <a:xfrm>
            <a:off x="2914560" y="914400"/>
            <a:ext cx="409572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434960" y="35064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300" spc="-1" strike="noStrike">
                <a:solidFill>
                  <a:srgbClr val="572314"/>
                </a:solidFill>
                <a:latin typeface="Gill Sans MT"/>
              </a:rPr>
              <a:t>Take Home Messag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1434960" y="1523520"/>
            <a:ext cx="7328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Gill Sans MT"/>
              </a:rPr>
              <a:t>Pharmacotherapy is aimed to alleviate symptoms &amp; prevent complications in R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Gill Sans MT"/>
              </a:rPr>
              <a:t>Beware of antiobiotic resistanc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Gill Sans MT"/>
              </a:rPr>
              <a:t>Vital important to identify the correct diagnosis &amp; early sign of complication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1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25FBD-54E3-4C7D-8DBD-5C94823DB022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2577960" y="26002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4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000" spc="-1" strike="noStrike">
                <a:solidFill>
                  <a:srgbClr val="572314"/>
                </a:solidFill>
                <a:latin typeface="Gill Sans MT"/>
              </a:rPr>
              <a:t>THANK YOU</a:t>
            </a: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3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9FFAD-6E9A-4ACA-B5BD-4ABE18AB0C1A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4" name="Picture 3" descr=""/>
          <p:cNvPicPr/>
          <p:nvPr/>
        </p:nvPicPr>
        <p:blipFill>
          <a:blip r:embed="rId1"/>
          <a:stretch/>
        </p:blipFill>
        <p:spPr>
          <a:xfrm>
            <a:off x="108000" y="2943360"/>
            <a:ext cx="2087640" cy="32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34960" y="3805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572314"/>
                </a:solidFill>
                <a:latin typeface="Gill Sans MT"/>
              </a:rPr>
              <a:t>Introduction</a:t>
            </a:r>
            <a:r>
              <a:rPr b="1" lang="en-US" sz="2000" spc="-1" strike="noStrike">
                <a:solidFill>
                  <a:srgbClr val="572314"/>
                </a:solidFill>
                <a:latin typeface="Gill Sans MT"/>
              </a:rPr>
              <a:t>-2</a:t>
            </a:r>
            <a:endParaRPr b="0" lang="en-US" sz="2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1434600" y="1553760"/>
            <a:ext cx="7404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Gill Sans MT"/>
              </a:rPr>
              <a:t>The aims of pharmacotherapy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Gill Sans MT"/>
              </a:rPr>
              <a:t>to alleviate symptoms 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Gill Sans MT"/>
              </a:rPr>
              <a:t>to prevent complica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723E0-BAA5-4D18-BA77-5FE17FCC487F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434960" y="42660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572314"/>
                </a:solidFill>
                <a:latin typeface="Gill Sans MT"/>
              </a:rPr>
              <a:t>Introduction</a:t>
            </a:r>
            <a:r>
              <a:rPr b="1" lang="en-US" sz="2000" spc="-1" strike="noStrike">
                <a:solidFill>
                  <a:srgbClr val="572314"/>
                </a:solidFill>
                <a:latin typeface="Gill Sans MT"/>
              </a:rPr>
              <a:t>-3</a:t>
            </a:r>
            <a:endParaRPr b="0" lang="en-US" sz="2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1434600" y="1599840"/>
            <a:ext cx="7404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500" spc="-1" strike="noStrike">
                <a:solidFill>
                  <a:srgbClr val="000000"/>
                </a:solidFill>
                <a:latin typeface="Gill Sans MT"/>
              </a:rPr>
              <a:t>Range of medications available: </a:t>
            </a: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000" spc="-1" strike="noStrike">
                <a:solidFill>
                  <a:srgbClr val="000000"/>
                </a:solidFill>
                <a:latin typeface="Gill Sans MT"/>
              </a:rPr>
              <a:t>antibiotics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000" spc="-1" strike="noStrike">
                <a:solidFill>
                  <a:srgbClr val="000000"/>
                </a:solidFill>
                <a:latin typeface="Gill Sans MT"/>
              </a:rPr>
              <a:t>corticosteroids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000" spc="-1" strike="noStrike">
                <a:solidFill>
                  <a:srgbClr val="000000"/>
                </a:solidFill>
                <a:latin typeface="Gill Sans MT"/>
              </a:rPr>
              <a:t>nasal saline irrigation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000" spc="-1" strike="noStrike">
                <a:solidFill>
                  <a:srgbClr val="000000"/>
                </a:solidFill>
                <a:latin typeface="Gill Sans MT"/>
              </a:rPr>
              <a:t>anti-histamine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000" spc="-1" strike="noStrike">
                <a:solidFill>
                  <a:srgbClr val="000000"/>
                </a:solidFill>
                <a:latin typeface="Gill Sans MT"/>
              </a:rPr>
              <a:t>others: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36520">
              <a:lnSpc>
                <a:spcPct val="90000"/>
              </a:lnSpc>
              <a:spcBef>
                <a:spcPts val="601"/>
              </a:spcBef>
              <a:buClr>
                <a:srgbClr val="feb80a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Gill Sans MT"/>
              </a:rPr>
              <a:t>analgesic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36520">
              <a:lnSpc>
                <a:spcPct val="90000"/>
              </a:lnSpc>
              <a:spcBef>
                <a:spcPts val="601"/>
              </a:spcBef>
              <a:buClr>
                <a:srgbClr val="feb80a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Gill Sans MT"/>
              </a:rPr>
              <a:t>decongestan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36520">
              <a:lnSpc>
                <a:spcPct val="90000"/>
              </a:lnSpc>
              <a:spcBef>
                <a:spcPts val="601"/>
              </a:spcBef>
              <a:buClr>
                <a:srgbClr val="feb80a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Gill Sans MT"/>
              </a:rPr>
              <a:t>mucolytic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36520">
              <a:lnSpc>
                <a:spcPct val="90000"/>
              </a:lnSpc>
              <a:spcBef>
                <a:spcPts val="601"/>
              </a:spcBef>
              <a:buClr>
                <a:srgbClr val="feb80a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Gill Sans MT"/>
              </a:rPr>
              <a:t>antiviral agent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0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E4B87-8D8F-4BC4-AFE0-9E4D93A2C64F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434960" y="228600"/>
            <a:ext cx="74995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3600" spc="-1" strike="noStrike">
                <a:solidFill>
                  <a:srgbClr val="572314"/>
                </a:solidFill>
                <a:latin typeface="Gill Sans MT"/>
              </a:rPr>
              <a:t>Antibiotics in ARS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1434600" y="1219320"/>
            <a:ext cx="74041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200" spc="-1" strike="noStrike">
                <a:solidFill>
                  <a:srgbClr val="000000"/>
                </a:solidFill>
                <a:latin typeface="Gill Sans MT"/>
              </a:rPr>
              <a:t>Minimal to moderate benefit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200" spc="-1" strike="noStrike">
                <a:solidFill>
                  <a:srgbClr val="000000"/>
                </a:solidFill>
                <a:latin typeface="Gill Sans MT"/>
              </a:rPr>
              <a:t>Cochrane meta-analyses: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000" spc="-1" strike="noStrike">
                <a:solidFill>
                  <a:srgbClr val="000000"/>
                </a:solidFill>
                <a:latin typeface="Gill Sans MT"/>
              </a:rPr>
              <a:t>2009 - a </a:t>
            </a:r>
            <a:r>
              <a:rPr b="0" lang="en-MY" sz="2000" spc="-1" strike="noStrike">
                <a:solidFill>
                  <a:srgbClr val="ff0000"/>
                </a:solidFill>
                <a:latin typeface="Gill Sans MT"/>
              </a:rPr>
              <a:t>reduced risk of treatment failure </a:t>
            </a:r>
            <a:r>
              <a:rPr b="0" lang="en-MY" sz="2000" spc="-1" strike="noStrike">
                <a:solidFill>
                  <a:srgbClr val="000000"/>
                </a:solidFill>
                <a:latin typeface="Gill Sans MT"/>
              </a:rPr>
              <a:t>in antibiotics comparing to placebo by 34% within 7 to 15 days (RR=0.66, 95% CI 0.44 to 0.98)</a:t>
            </a:r>
            <a:r>
              <a:rPr b="0" lang="en-MY" sz="2000" spc="-1" strike="noStrike" baseline="30000">
                <a:solidFill>
                  <a:srgbClr val="000000"/>
                </a:solidFill>
                <a:latin typeface="Gill Sans MT"/>
              </a:rPr>
              <a:t>26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000" spc="-1" strike="noStrike">
                <a:solidFill>
                  <a:srgbClr val="000000"/>
                </a:solidFill>
                <a:latin typeface="Gill Sans MT"/>
              </a:rPr>
              <a:t>2012 - a </a:t>
            </a:r>
            <a:r>
              <a:rPr b="0" lang="en-MY" sz="2000" spc="-1" strike="noStrike">
                <a:solidFill>
                  <a:srgbClr val="ff0000"/>
                </a:solidFill>
                <a:latin typeface="Gill Sans MT"/>
              </a:rPr>
              <a:t>favourable overall treatment effect </a:t>
            </a:r>
            <a:r>
              <a:rPr b="0" lang="en-MY" sz="2000" spc="-1" strike="noStrike">
                <a:solidFill>
                  <a:srgbClr val="000000"/>
                </a:solidFill>
                <a:latin typeface="Gill Sans MT"/>
              </a:rPr>
              <a:t>of antibiotics against placebo (OR=1.25, 95% CI 1.02 to 1.53; NNT=18).</a:t>
            </a:r>
            <a:r>
              <a:rPr b="0" lang="en-MY" sz="2000" spc="-1" strike="noStrike" baseline="30000">
                <a:solidFill>
                  <a:srgbClr val="000000"/>
                </a:solidFill>
                <a:latin typeface="Gill Sans MT"/>
              </a:rPr>
              <a:t>27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200" spc="-1" strike="noStrike">
                <a:solidFill>
                  <a:srgbClr val="000000"/>
                </a:solidFill>
                <a:latin typeface="Gill Sans MT"/>
              </a:rPr>
              <a:t>A large prospective cohort study:</a:t>
            </a:r>
            <a:r>
              <a:rPr b="0" lang="en-MY" sz="2200" spc="-1" strike="noStrike" baseline="30000">
                <a:solidFill>
                  <a:srgbClr val="000000"/>
                </a:solidFill>
                <a:latin typeface="Gill Sans MT"/>
              </a:rPr>
              <a:t>28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000" spc="-1" strike="noStrike">
                <a:solidFill>
                  <a:srgbClr val="ff0000"/>
                </a:solidFill>
                <a:latin typeface="Gill Sans MT"/>
              </a:rPr>
              <a:t>reduced risk of treatment failure </a:t>
            </a:r>
            <a:r>
              <a:rPr b="0" lang="en-MY" sz="2000" spc="-1" strike="noStrike">
                <a:solidFill>
                  <a:srgbClr val="000000"/>
                </a:solidFill>
                <a:latin typeface="Gill Sans MT"/>
              </a:rPr>
              <a:t>in patients treated with antibiotics vs without antibiotics (HR=0.3, 95% CI 0.21 to 0.42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000" spc="-1" strike="noStrike">
                <a:solidFill>
                  <a:srgbClr val="000000"/>
                </a:solidFill>
                <a:latin typeface="Gill Sans MT"/>
              </a:rPr>
              <a:t>patients with poor orodental condition &amp; those with previous use of antibiotics in the past 2 months benefited most from this (HR of 0.04 &amp; 0.09 respectively)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4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en-MY" sz="1400" spc="-1" strike="noStrike">
                <a:solidFill>
                  <a:srgbClr val="000000"/>
                </a:solidFill>
                <a:latin typeface="Gill Sans MT"/>
              </a:rPr>
              <a:t>26.  Ahovuo-Saloranta A et al.  Cochrane Database Syst Rev. 2008; 2014;2:CD000243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4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en-MY" sz="1400" spc="-1" strike="noStrike">
                <a:solidFill>
                  <a:srgbClr val="000000"/>
                </a:solidFill>
                <a:latin typeface="Gill Sans MT"/>
              </a:rPr>
              <a:t>27.  Lemiengre MB, et al.  Cochrane database Syst Rev 2012;10(10):CD006089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4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en-MY" sz="1400" spc="-1" strike="noStrike">
                <a:solidFill>
                  <a:srgbClr val="000000"/>
                </a:solidFill>
                <a:latin typeface="Gill Sans MT"/>
              </a:rPr>
              <a:t>28.  Blin P et al. Br J Clin Pharmacol. 2010;70(3):418–28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0254D-B470-4002-8329-2F8442ABF8E2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3805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300" spc="-1" strike="noStrike">
                <a:solidFill>
                  <a:srgbClr val="572314"/>
                </a:solidFill>
                <a:latin typeface="Gill Sans MT"/>
              </a:rPr>
              <a:t>Antibiotics in ARS</a:t>
            </a:r>
            <a:r>
              <a:rPr b="1" lang="en-MY" sz="2000" spc="-1" strike="noStrike">
                <a:solidFill>
                  <a:srgbClr val="572314"/>
                </a:solidFill>
                <a:latin typeface="Gill Sans MT"/>
              </a:rPr>
              <a:t>-2</a:t>
            </a:r>
            <a:r>
              <a:rPr b="1" lang="en-MY" sz="4300" spc="-1" strike="noStrike">
                <a:solidFill>
                  <a:srgbClr val="572314"/>
                </a:solidFill>
                <a:latin typeface="Gill Sans MT"/>
              </a:rPr>
              <a:t>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434600" y="1553760"/>
            <a:ext cx="7404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Gill Sans MT"/>
              </a:rPr>
              <a:t>Adverse effects - mostly gastrointestinal</a:t>
            </a:r>
            <a:r>
              <a:rPr b="0" lang="en-MY" sz="3200" spc="-1" strike="noStrike" baseline="30000">
                <a:solidFill>
                  <a:srgbClr val="000000"/>
                </a:solidFill>
                <a:latin typeface="Gill Sans MT"/>
              </a:rPr>
              <a:t>27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Gill Sans MT"/>
              </a:rPr>
              <a:t>Antimicrobial resistance due to overuse of antibiotics</a:t>
            </a:r>
            <a:r>
              <a:rPr b="0" lang="en-MY" sz="3200" spc="-1" strike="noStrike" baseline="30000">
                <a:solidFill>
                  <a:srgbClr val="000000"/>
                </a:solidFill>
                <a:latin typeface="Gill Sans MT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MY" sz="3200" spc="-1" strike="noStrike">
                <a:solidFill>
                  <a:srgbClr val="000000"/>
                </a:solidFill>
                <a:latin typeface="Gill Sans MT"/>
              </a:rPr>
              <a:t>Streptococcus pneumoniae, Haemophilus influenza</a:t>
            </a:r>
            <a:r>
              <a:rPr b="0" lang="en-MY" sz="3200" spc="-1" strike="noStrike" baseline="30000">
                <a:solidFill>
                  <a:srgbClr val="000000"/>
                </a:solidFill>
                <a:latin typeface="Gill Sans MT"/>
              </a:rPr>
              <a:t>29, 30, 31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en-MY" sz="1400" spc="-1" strike="noStrike">
                <a:solidFill>
                  <a:srgbClr val="000000"/>
                </a:solidFill>
                <a:latin typeface="Gill Sans MT"/>
              </a:rPr>
              <a:t>1. Fokkens WJ, et al. Rhinology. 2012 Mar;50(23):1-305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4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en-MY" sz="1400" spc="-1" strike="noStrike">
                <a:solidFill>
                  <a:srgbClr val="000000"/>
                </a:solidFill>
                <a:latin typeface="Gill Sans MT"/>
              </a:rPr>
              <a:t>29. Ministry of Health M. National Surveillance of Antibiotic Resistance (NSAR). 2010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4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en-MY" sz="1400" spc="-1" strike="noStrike">
                <a:solidFill>
                  <a:srgbClr val="000000"/>
                </a:solidFill>
                <a:latin typeface="Gill Sans MT"/>
              </a:rPr>
              <a:t>30. Ministry of Health M. National Surveillance of Antibiotic Resistance (NSAR) Report. 2014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4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en-MY" sz="1400" spc="-1" strike="noStrike">
                <a:solidFill>
                  <a:srgbClr val="000000"/>
                </a:solidFill>
                <a:latin typeface="Gill Sans MT"/>
              </a:rPr>
              <a:t>31. Ministry of Health M. National Surveillance of Antibiotic Resistance (NSAR) Report. 2011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CBE77-685C-4BA7-BC38-114653870E39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34960" y="3805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572314"/>
                </a:solidFill>
                <a:latin typeface="Gill Sans MT"/>
              </a:rPr>
              <a:t>Antibiotics in ARS</a:t>
            </a:r>
            <a:r>
              <a:rPr b="1" lang="en-US" sz="2000" spc="-1" strike="noStrike">
                <a:solidFill>
                  <a:srgbClr val="572314"/>
                </a:solidFill>
                <a:latin typeface="Gill Sans MT"/>
              </a:rPr>
              <a:t>-3</a:t>
            </a:r>
            <a:endParaRPr b="0" lang="en-US" sz="2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1434600" y="1599840"/>
            <a:ext cx="7404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599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There is no significant difference in efficacy between different antibiotics in ARS.</a:t>
            </a:r>
            <a:r>
              <a:rPr b="0" lang="en-US" sz="3000" spc="-1" strike="noStrike" baseline="30000">
                <a:solidFill>
                  <a:srgbClr val="000000"/>
                </a:solidFill>
                <a:latin typeface="Gill Sans MT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000" spc="-1" strike="noStrike">
                <a:solidFill>
                  <a:srgbClr val="000000"/>
                </a:solidFill>
                <a:latin typeface="Gill Sans MT"/>
              </a:rPr>
              <a:t>Preferred antibiotics are </a:t>
            </a:r>
            <a:r>
              <a:rPr b="0" lang="en-MY" sz="3000" spc="-1" strike="noStrike">
                <a:solidFill>
                  <a:srgbClr val="ff0000"/>
                </a:solidFill>
                <a:latin typeface="Gill Sans MT"/>
              </a:rPr>
              <a:t>amoxicillin</a:t>
            </a:r>
            <a:r>
              <a:rPr b="0" lang="en-MY" sz="3000" spc="-1" strike="noStrike">
                <a:solidFill>
                  <a:srgbClr val="000000"/>
                </a:solidFill>
                <a:latin typeface="Gill Sans MT"/>
              </a:rPr>
              <a:t> &amp;</a:t>
            </a:r>
            <a:r>
              <a:rPr b="0" lang="en-MY" sz="3000" spc="-1" strike="noStrike">
                <a:solidFill>
                  <a:srgbClr val="ff0000"/>
                </a:solidFill>
                <a:latin typeface="Gill Sans MT"/>
              </a:rPr>
              <a:t> amoxicillin/clavulanate</a:t>
            </a:r>
            <a:r>
              <a:rPr b="0" lang="en-MY" sz="3000" spc="-1" strike="noStrike" baseline="30000">
                <a:solidFill>
                  <a:srgbClr val="000000"/>
                </a:solidFill>
                <a:latin typeface="Gill Sans MT"/>
              </a:rPr>
              <a:t>6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A meta-analysis: </a:t>
            </a:r>
            <a:r>
              <a:rPr b="0" lang="en-US" sz="3000" spc="-1" strike="noStrike">
                <a:solidFill>
                  <a:srgbClr val="ff0000"/>
                </a:solidFill>
                <a:latin typeface="Gill Sans MT"/>
              </a:rPr>
              <a:t>a shorter course 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of antibiotics (3 to 7 days) was as efficacious as a longer one (6 to 10 days).</a:t>
            </a:r>
            <a:r>
              <a:rPr b="0" lang="en-US" sz="3000" spc="-1" strike="noStrike" baseline="30000">
                <a:solidFill>
                  <a:srgbClr val="000000"/>
                </a:solidFill>
                <a:latin typeface="Gill Sans MT"/>
              </a:rPr>
              <a:t>8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Gill Sans MT"/>
              </a:rPr>
              <a:t>8. Falagas ME, et al. Br J Clin Pharmacol. 2009;67(2):161–71</a:t>
            </a: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619FB-11DA-406F-B291-605A7A756F5E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434960" y="3805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300" spc="-1" strike="noStrike">
                <a:solidFill>
                  <a:srgbClr val="572314"/>
                </a:solidFill>
                <a:latin typeface="Gill Sans MT"/>
              </a:rPr>
              <a:t>Antibiotics in CR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1434960" y="1599840"/>
            <a:ext cx="7328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Gill Sans MT"/>
              </a:rPr>
              <a:t>Insufficient strong evidence to support the routine use of antibiotics in CRS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ff0000"/>
                </a:solidFill>
                <a:latin typeface="Gill Sans MT"/>
              </a:rPr>
              <a:t>Macrolides</a:t>
            </a:r>
            <a:r>
              <a:rPr b="0" lang="en-MY" sz="3200" spc="-1" strike="noStrike">
                <a:solidFill>
                  <a:srgbClr val="000000"/>
                </a:solidFill>
                <a:latin typeface="Gill Sans MT"/>
              </a:rPr>
              <a:t> administered by ORL specialists in CRS for its </a:t>
            </a:r>
            <a:r>
              <a:rPr b="0" lang="en-MY" sz="3200" spc="-1" strike="noStrike">
                <a:solidFill>
                  <a:srgbClr val="ff0000"/>
                </a:solidFill>
                <a:latin typeface="Gill Sans MT"/>
              </a:rPr>
              <a:t>anti-inflammatory</a:t>
            </a:r>
            <a:r>
              <a:rPr b="0" lang="en-MY" sz="3200" spc="-1" strike="noStrike">
                <a:solidFill>
                  <a:srgbClr val="000000"/>
                </a:solidFill>
                <a:latin typeface="Gill Sans MT"/>
              </a:rPr>
              <a:t> propertie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2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60D64-92E0-4C45-9988-C994DDB098CE}" type="slidenum">
              <a:rPr b="0" lang="en-MY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15T22:12:47Z</dcterms:created>
  <dc:creator>DrAmin</dc:creator>
  <dc:description/>
  <dc:language>en-US</dc:language>
  <cp:lastModifiedBy>DrAmin</cp:lastModifiedBy>
  <dcterms:modified xsi:type="dcterms:W3CDTF">2017-10-06T01:52:27Z</dcterms:modified>
  <cp:revision>63</cp:revision>
  <dc:subject/>
  <dc:title>PowerPoint Presentation</dc:title>
</cp:coreProperties>
</file>